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media/image3.wmf" ContentType="image/x-wmf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ACF63-0F02-4313-9536-33C82F51E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C021D-2BC5-44D9-8735-5FAEA8284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20868-E819-441F-AF67-CE39BA490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3CAA2-FB5B-4CDB-BA21-1D2B74F08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1B580-02BB-4287-81EA-10C1D4320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E3ABC-C969-48A4-851D-53771B374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97C8F-582E-4328-88CE-F2A7138E4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2EE77-23A8-4517-BB77-BE1851DE1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560CE-51C0-4EBC-A7FF-EE06439CD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25C86-AC8D-46A1-A638-C63341144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B57B4-8794-48B7-BA4E-3177FD05A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87286-4A2B-4F36-978B-74120CD56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A5C43-E923-4161-B894-B84E48E45138}" type="slidenum">
              <a:rPr b="0" lang="en-N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-181080" y="-227160"/>
          <a:ext cx="9649080" cy="708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81080" y="-227160"/>
                    <a:ext cx="9649080" cy="708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324000" y="620640"/>
            <a:ext cx="8243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50920" y="260280"/>
            <a:ext cx="79214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000000"/>
                </a:solidFill>
                <a:latin typeface="Arial"/>
              </a:rPr>
              <a:t>9DH August 200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000000"/>
                </a:solidFill>
                <a:latin typeface="Arial"/>
              </a:rPr>
              <a:t>Rotation about a given poi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000000"/>
                </a:solidFill>
                <a:latin typeface="Arial"/>
              </a:rPr>
              <a:t>&amp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000000"/>
                </a:solidFill>
                <a:latin typeface="Arial"/>
              </a:rPr>
              <a:t>Writing the coordinates of the imag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000000"/>
                </a:solidFill>
                <a:latin typeface="Arial"/>
              </a:rPr>
              <a:t>&amp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000000"/>
                </a:solidFill>
                <a:latin typeface="Arial"/>
              </a:rPr>
              <a:t>Learning about how to draw the x and y axi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000000"/>
                </a:solidFill>
                <a:latin typeface="Arial"/>
              </a:rPr>
              <a:t>&amp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000000"/>
                </a:solidFill>
                <a:latin typeface="Arial"/>
              </a:rPr>
              <a:t>Making mathematical observ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9DH: Lear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-181080" y="-227160"/>
          <a:ext cx="9649080" cy="708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81080" y="-227160"/>
                    <a:ext cx="9649080" cy="708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"/>
          <p:cNvSpPr/>
          <p:nvPr/>
        </p:nvSpPr>
        <p:spPr>
          <a:xfrm>
            <a:off x="324000" y="620640"/>
            <a:ext cx="8243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50920" y="260280"/>
            <a:ext cx="79214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000000"/>
                </a:solidFill>
                <a:latin typeface="Arial"/>
              </a:rPr>
              <a:t>9DH August 200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000000"/>
                </a:solidFill>
                <a:latin typeface="Arial"/>
              </a:rPr>
              <a:t>Making mathematical observation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000000"/>
                </a:solidFill>
                <a:latin typeface="Arial"/>
              </a:rPr>
              <a:t>If this is ‘easy’ for you then your job is thinking about how you are going to TEACH your class mates how to do this – and your instructions can be added to the end of the powerpoi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Today is our last lesson on this task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By the end of this lesson you should beable to rotate a given shape (or image) about the given point of rot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¼ turns (90degrees), ½ turns (180degrees) and ¾ turns (270degrees) in a clockwise OR anticlockwise dir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Label the image points correctly and state the coordina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Task: Use a whole p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Put the point (0,0) in the middle of your p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Draw the x and y axis. (remember the y hangs down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Label the x and y axis, right to the edge of the page. Remember where the negatives go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Draw the following points, label them, join them together with straight lines to form a polyg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Point A(3,4); Point B(5,6); Point C(7,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Rotate the triangle a quarter turn clockwise about the point (0,0) and label the points A’, B’ and C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To the right of the image list the points and their coordina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The triangle</a:t>
            </a:r>
            <a:br>
              <a:rPr sz="4000"/>
            </a:b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looks something like thi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209600" y="1600200"/>
            <a:ext cx="67230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And after the rotation ¼ turn clockwise about (0,0)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209600" y="1600200"/>
            <a:ext cx="67230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On the same pag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Point A(3,4); Point B(5,6); Point C(7,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(the SAME triangl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Rotate the triangle a half turn clockwise about the point (0,0) and label the points A’’, B’’ and C’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To the left of the image list the points and their coordina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Write “triangle ABC rotated half a turn about (0,0)” below the triang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-181080" y="-227160"/>
          <a:ext cx="9649080" cy="708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81080" y="-227160"/>
                    <a:ext cx="9649080" cy="708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-181080" y="-227160"/>
          <a:ext cx="9649080" cy="708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81080" y="-227160"/>
                    <a:ext cx="9649080" cy="708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324000" y="620640"/>
            <a:ext cx="824364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WHAT can you notice about the co-ordinat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Can you spot a patter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Can you write down the pattern in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mathematical statem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Words that might help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Left, right, up, d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Squa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Hint: look at (3,4) (3,-4) (-4,-3) and (-4,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What do these points have in comm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30T20:52:12Z</dcterms:created>
  <dc:creator>Administrator</dc:creator>
  <dc:description/>
  <dc:language>en-US</dc:language>
  <cp:lastModifiedBy>Administrator</cp:lastModifiedBy>
  <dcterms:modified xsi:type="dcterms:W3CDTF">2006-09-06T00:52:05Z</dcterms:modified>
  <cp:revision>3</cp:revision>
  <dc:subject/>
  <dc:title>Slide 1</dc:title>
</cp:coreProperties>
</file>