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2AD-EE63-4FC6-B385-D0F2EDD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BB7F-3553-49D7-827F-B080CB4B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F6B-3EBF-4590-B712-057DD8E7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69CC-4063-46E4-96B1-14A7A4EF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A15-6896-4A5E-8B1E-5B5EB35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B0C-A4C7-4E3B-9C5A-E24DBE22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1A3-ED04-4320-93A2-4ED8445C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71D-9064-4917-B733-65D84466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BC6-79F7-4EB7-B138-86F96528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76C-9D8C-4812-87E7-E217C5E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AFB-D3D3-448B-9606-F889047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C97-3CEB-4134-BC60-E817318C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927-1B0F-473C-AAF2-B30D94DF7190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otation about a given 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riting the coordinates of the im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earning about how to draw the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DH: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028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f this is ‘easy’ for you then your job is thinking about how you are going to TEACH your class mates how to do this – and your instructions can be added to the end of the power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day is our last lesson on this tas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the end of this lesson you should beable to rotate a given shape (or image) about the given point of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¼ turns (90degrees), ½ turns (180degrees) and ¾ turns (270degrees) in a clockwise OR anticlockwi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bel the image points correctly and state th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ask: Use a who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t the point (0,0) in the middle of you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x and y axis. (remember the y hangs dow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abel the x and y axis, right to the edge of the page. Remember where the negatives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following points, label them, join them together with straight lines to form a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tate the triangle a quarter turn clockwise about the point (0,0) and label the points A’, B’ and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the right of the image list the points and their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triangle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oks something like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nd after the rotation ¼ turn clockwise about (0,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n the same p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the SAME triang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tate the triangle a half turn clockwise about the point (0,0) and label the points A’’, B’’ and C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the left of the image list the points and their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e “triangle ABC rotated half a turn about (0,0)” below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24000" y="620640"/>
            <a:ext cx="824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can you notice about the co-ordin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spot a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write down the pattern 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hematical stat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ords that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ft, right, up,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int: look at (3,4) (3,-4) (-4,-3) and (-4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se point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52:12Z</dcterms:created>
  <dc:creator>Administrator</dc:creator>
  <dc:description/>
  <dc:language>en-US</dc:language>
  <cp:lastModifiedBy>Administrator</cp:lastModifiedBy>
  <dcterms:modified xsi:type="dcterms:W3CDTF">2006-09-06T00:52:05Z</dcterms:modified>
  <cp:revision>3</cp:revision>
  <dc:subject/>
  <dc:title>Slide 1</dc:title>
</cp:coreProperties>
</file>