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84B6-A772-42FF-A8BC-61886D242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59F3-4139-4C98-BE9A-F935CEB8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AA58-7084-4795-9D82-7916ECC92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B91D-915D-435A-8D98-8B4FD2357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6546-D3F2-420F-914F-6070EF08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55BF-921D-4504-9F0E-2ABD07AF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5BBB-404A-4519-BD1A-A423B2A2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FEE0-F57C-4057-B2C0-CE6219B8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C5C5-34F5-44F4-B5C6-71D811DF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547A-C7AB-4C73-8ED2-961A3877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CDAA-FF3A-48F6-9339-2F7F1136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2B68-958F-467B-9DC7-1421FC9A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5B6E-4E4D-4A06-9DDD-CD88AE4B7FB6}" type="slidenum">
              <a:rPr b="0" lang="en-N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181080" y="-227160"/>
          <a:ext cx="9649080" cy="708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-227160"/>
                    <a:ext cx="9649080" cy="708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324000" y="620640"/>
            <a:ext cx="8243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260280"/>
            <a:ext cx="7921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9DH August 20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Rotation about a given poi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Writing the coordinates of the imag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Learning about how to draw the x and y ax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Making mathematical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9DH: Lear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-181080" y="-227160"/>
          <a:ext cx="9649080" cy="708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-227160"/>
                    <a:ext cx="9649080" cy="708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24000" y="620640"/>
            <a:ext cx="8243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260280"/>
            <a:ext cx="7921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9DH August 20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Making mathematical observa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If this is ‘easy’ for you then your job is thinking about how you are going to TEACH your class mates how to do this – and your instructions can be added to the end of the powerpoi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oday is our last lesson on this task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y the end of this lesson you should beable to rotate a given shape (or image) about the given point of ro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¼ turns (90degrees), ½ turns (180degrees) and ¾ turns (270degrees) in a clockwise OR anticlockwise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Label the image points correctly and state the coordin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ask: Use a whole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ut the point (0,0) in the middle of your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raw the x and y axis. (remember the y hangs down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Label the x and y axis, right to the edge of the page. Remember where the negatives g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raw the following points, label them, join them together with straight lines to form a polyg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oint A(3,4); Point B(5,6); Point C(7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otate the triangle a quarter turn clockwise about the point (0,0) and label the points A’, B’ and C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o the right of the image list the points and their coordin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he triangle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looks something like thi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09600" y="1600200"/>
            <a:ext cx="6723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And after the rotation ¼ turn clockwise about (0,0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09600" y="1600200"/>
            <a:ext cx="6723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On the same pag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oint A(3,4); Point B(5,6); Point C(7,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(the SAME triang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otate the triangle a half turn clockwise about the point (0,0) and label the points A’’, B’’ and C’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o the left of the image list the points and their coordin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rite “triangle ABC rotated half a turn about (0,0)” below the triang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-181080" y="-227160"/>
          <a:ext cx="9649080" cy="708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-227160"/>
                    <a:ext cx="9649080" cy="708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-181080" y="-227160"/>
          <a:ext cx="9649080" cy="708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-227160"/>
                    <a:ext cx="9649080" cy="708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324000" y="620640"/>
            <a:ext cx="8243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WHAT can you notice about the co-ordina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an you spot a patte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an you write down the pattern i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mathematical stat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Words that might hel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Left, right, up,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qu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Hint: look at (3,4) (3,-4) (-4,-3) and (-4,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What do these points have in comm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20:52:12Z</dcterms:created>
  <dc:creator>Administrator</dc:creator>
  <dc:description/>
  <dc:language>en-US</dc:language>
  <cp:lastModifiedBy>Administrator</cp:lastModifiedBy>
  <dcterms:modified xsi:type="dcterms:W3CDTF">2006-09-06T00:52:05Z</dcterms:modified>
  <cp:revision>3</cp:revision>
  <dc:subject/>
  <dc:title>Slide 1</dc:title>
</cp:coreProperties>
</file>