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2B4-2ABC-420B-9300-7A8907D9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B3D-1EC1-43CC-8298-CD7B1C3C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583-96CE-48C8-BAEF-C16C5A6A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9BE-E518-47EE-8A81-ECEE2968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141D-BC37-4C59-A7FA-ADF8A83A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6D57-CADD-45D7-B712-DAF1E08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3E4C-5D38-4F7F-BF5E-3A2353C0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71F5-72F6-4455-A143-2780857A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C24C-071B-441E-BAED-D867E836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53E2-EEAE-4B64-8911-A0F04B48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93DF-E945-4149-84EA-25B76E1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31A-0F71-4D10-B157-9F599383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5718-90C8-487A-92BB-E1B7CB8D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21BB-5E74-429A-B60C-1BAB010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7638-4B87-4B92-ADA7-46467651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D803-3BB1-4171-8F5F-D5D00670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C4E7-CB90-43EA-8C48-5890CE83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699-6496-4D2B-AC67-294717AE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5D0-97ED-44F5-9D94-426B8EF8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F02-17ED-44FE-BC08-2FDE96C3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DAA-9E05-46F5-B020-2C1DF2EE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FF4-BD60-4E00-A46C-8D72D52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E75-497E-44AB-A80B-680B0E9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A6D-C4E9-45F3-A9AF-4EC61A7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4406-7937-4393-9A99-A85CF185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67B9-E221-4E9B-921B-D2EFCC57DF9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8.xml"/><Relationship Id="rId3" Type="http://schemas.openxmlformats.org/officeDocument/2006/relationships/slide" Target="slide1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8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e Numeracy Professional Development Project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Secondary Schoo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5105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H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ordin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 Numerac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05320"/>
            <a:ext cx="685800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dition and Subtrac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2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8 +         = 5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63204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7600" y="2819520"/>
            <a:ext cx="6260760" cy="1516680"/>
            <a:chOff x="1587600" y="2819520"/>
            <a:chExt cx="6260760" cy="1516680"/>
          </a:xfrm>
        </p:grpSpPr>
        <p:grpSp>
          <p:nvGrpSpPr>
            <p:cNvPr id="230" name=""/>
            <p:cNvGrpSpPr/>
            <p:nvPr/>
          </p:nvGrpSpPr>
          <p:grpSpPr>
            <a:xfrm>
              <a:off x="1587600" y="3632040"/>
              <a:ext cx="339120" cy="621720"/>
              <a:chOff x="1587600" y="3632040"/>
              <a:chExt cx="339120" cy="621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587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8600" y="3632040"/>
              <a:ext cx="339120" cy="621720"/>
              <a:chOff x="4548600" y="3632040"/>
              <a:chExt cx="339120" cy="62172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8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3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09240" y="3632040"/>
              <a:ext cx="339120" cy="621720"/>
              <a:chOff x="7509240" y="3632040"/>
              <a:chExt cx="339120" cy="621720"/>
            </a:xfrm>
          </p:grpSpPr>
          <p:sp>
            <p:nvSpPr>
              <p:cNvPr id="237" name=""/>
              <p:cNvSpPr/>
              <p:nvPr/>
            </p:nvSpPr>
            <p:spPr>
              <a:xfrm>
                <a:off x="750924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04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93080" y="2819520"/>
              <a:ext cx="4329000" cy="1516680"/>
              <a:chOff x="2593080" y="2819520"/>
              <a:chExt cx="4329000" cy="151668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2593080" y="3615840"/>
                <a:ext cx="519120" cy="704520"/>
                <a:chOff x="2593080" y="3615840"/>
                <a:chExt cx="519120" cy="70452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2879640" y="361584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593080" y="3860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70280" y="2946240"/>
                <a:ext cx="272880" cy="685800"/>
                <a:chOff x="2870280" y="2946240"/>
                <a:chExt cx="272880" cy="6858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14560" y="3251160"/>
                  <a:ext cx="228600" cy="38088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70280" y="2946240"/>
                  <a:ext cx="244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149640" y="2825640"/>
                <a:ext cx="1498680" cy="806400"/>
                <a:chOff x="3149640" y="2825640"/>
                <a:chExt cx="1498680" cy="806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149640" y="3098880"/>
                  <a:ext cx="149868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95760" y="28256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40520" y="2901960"/>
                <a:ext cx="564840" cy="730080"/>
                <a:chOff x="6140520" y="2901960"/>
                <a:chExt cx="564840" cy="7300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140520" y="3174840"/>
                  <a:ext cx="564840" cy="45720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26560" y="2901960"/>
                  <a:ext cx="302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067200" y="3632040"/>
                <a:ext cx="339120" cy="621720"/>
                <a:chOff x="3067200" y="3632040"/>
                <a:chExt cx="339120" cy="621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06720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6404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027840" y="3632040"/>
                <a:ext cx="339120" cy="621720"/>
                <a:chOff x="6027840" y="3632040"/>
                <a:chExt cx="339120" cy="621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02784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468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8320" y="2819520"/>
                <a:ext cx="1498320" cy="812520"/>
                <a:chOff x="4648320" y="2819520"/>
                <a:chExt cx="1498320" cy="812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4440" y="28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8320" y="3098880"/>
                  <a:ext cx="149832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02960" y="3631680"/>
                <a:ext cx="519120" cy="704520"/>
                <a:chOff x="6402960" y="3631680"/>
                <a:chExt cx="519120" cy="70452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6689520" y="363168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02960" y="38764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1371600" y="4276800"/>
            <a:ext cx="6553080" cy="914400"/>
            <a:chOff x="1371600" y="4276800"/>
            <a:chExt cx="6553080" cy="914400"/>
          </a:xfrm>
        </p:grpSpPr>
        <p:sp>
          <p:nvSpPr>
            <p:cNvPr id="265" name=""/>
            <p:cNvSpPr/>
            <p:nvPr/>
          </p:nvSpPr>
          <p:spPr>
            <a:xfrm>
              <a:off x="1371600" y="4276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6 +         = 7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442944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86200" y="4276800"/>
            <a:ext cx="114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92776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73840" y="5124600"/>
            <a:ext cx="4548240" cy="1507320"/>
            <a:chOff x="2373840" y="5124600"/>
            <a:chExt cx="4548240" cy="1507320"/>
          </a:xfrm>
        </p:grpSpPr>
        <p:grpSp>
          <p:nvGrpSpPr>
            <p:cNvPr id="270" name=""/>
            <p:cNvGrpSpPr/>
            <p:nvPr/>
          </p:nvGrpSpPr>
          <p:grpSpPr>
            <a:xfrm>
              <a:off x="2373840" y="5911560"/>
              <a:ext cx="519120" cy="704520"/>
              <a:chOff x="2373840" y="5911560"/>
              <a:chExt cx="519120" cy="70452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660400" y="59115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73840" y="6156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681280" y="555300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8136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3160" y="538956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5160" y="512460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140520" y="5197320"/>
              <a:ext cx="564840" cy="730080"/>
              <a:chOff x="6140520" y="5197320"/>
              <a:chExt cx="564840" cy="730080"/>
            </a:xfrm>
          </p:grpSpPr>
          <p:sp>
            <p:nvSpPr>
              <p:cNvPr id="278" name=""/>
              <p:cNvSpPr/>
              <p:nvPr/>
            </p:nvSpPr>
            <p:spPr>
              <a:xfrm>
                <a:off x="6140520" y="547020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26560" y="519732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067200" y="5927760"/>
              <a:ext cx="339120" cy="621360"/>
              <a:chOff x="3067200" y="5927760"/>
              <a:chExt cx="339120" cy="621360"/>
            </a:xfrm>
          </p:grpSpPr>
          <p:sp>
            <p:nvSpPr>
              <p:cNvPr id="281" name=""/>
              <p:cNvSpPr/>
              <p:nvPr/>
            </p:nvSpPr>
            <p:spPr>
              <a:xfrm>
                <a:off x="306720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27840" y="5927760"/>
              <a:ext cx="339120" cy="621360"/>
              <a:chOff x="6027840" y="5927760"/>
              <a:chExt cx="339120" cy="621360"/>
            </a:xfrm>
          </p:grpSpPr>
          <p:sp>
            <p:nvSpPr>
              <p:cNvPr id="284" name=""/>
              <p:cNvSpPr/>
              <p:nvPr/>
            </p:nvSpPr>
            <p:spPr>
              <a:xfrm>
                <a:off x="602784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468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402960" y="5927400"/>
              <a:ext cx="519120" cy="704520"/>
              <a:chOff x="6402960" y="5927400"/>
              <a:chExt cx="519120" cy="70452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6689520" y="59274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960" y="6172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1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        = 6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0 to get to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30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30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30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30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31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from her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c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rategies on number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13716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1523880" y="2438280"/>
            <a:ext cx="4496040" cy="381240"/>
          </a:xfrm>
          <a:custGeom>
            <a:avLst/>
            <a:gdLst>
              <a:gd name="textAreaLeft" fmla="*/ 24480 w 4496040"/>
              <a:gd name="textAreaRight" fmla="*/ 4471560 w 4496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4513" h="21600">
                <a:moveTo>
                  <a:pt x="0" y="0"/>
                </a:moveTo>
                <a:lnTo>
                  <a:pt x="254513" y="0"/>
                </a:lnTo>
                <a:lnTo>
                  <a:pt x="254513" y="21600"/>
                </a:lnTo>
                <a:lnTo>
                  <a:pt x="0" y="21600"/>
                </a:lnTo>
                <a:close/>
              </a:path>
              <a:path fill="lightenLess" w="254513" h="21600">
                <a:moveTo>
                  <a:pt x="0" y="0"/>
                </a:moveTo>
                <a:lnTo>
                  <a:pt x="254513" y="0"/>
                </a:lnTo>
                <a:lnTo>
                  <a:pt x="253113" y="1400"/>
                </a:lnTo>
                <a:lnTo>
                  <a:pt x="1400" y="1400"/>
                </a:lnTo>
                <a:close/>
              </a:path>
              <a:path fill="darken" w="254513" h="21600">
                <a:moveTo>
                  <a:pt x="254513" y="0"/>
                </a:moveTo>
                <a:lnTo>
                  <a:pt x="254513" y="21600"/>
                </a:lnTo>
                <a:lnTo>
                  <a:pt x="253113" y="20200"/>
                </a:lnTo>
                <a:lnTo>
                  <a:pt x="253113" y="1400"/>
                </a:lnTo>
                <a:close/>
              </a:path>
              <a:path fill="darkenLess" w="254513" h="21600">
                <a:moveTo>
                  <a:pt x="25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13" y="20200"/>
                </a:lnTo>
                <a:close/>
              </a:path>
              <a:path fill="lighten" w="25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4" action="ppaction://hlinksldjump"/>
          </p:cNvPr>
          <p:cNvSpPr/>
          <p:nvPr/>
        </p:nvSpPr>
        <p:spPr>
          <a:xfrm>
            <a:off x="1523880" y="2819520"/>
            <a:ext cx="4800600" cy="457200"/>
          </a:xfrm>
          <a:custGeom>
            <a:avLst/>
            <a:gdLst>
              <a:gd name="textAreaLeft" fmla="*/ 29520 w 4800600"/>
              <a:gd name="textAreaRight" fmla="*/ 4771080 w 4800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6639" h="21600">
                <a:moveTo>
                  <a:pt x="0" y="0"/>
                </a:moveTo>
                <a:lnTo>
                  <a:pt x="226639" y="0"/>
                </a:lnTo>
                <a:lnTo>
                  <a:pt x="226639" y="21600"/>
                </a:lnTo>
                <a:lnTo>
                  <a:pt x="0" y="21600"/>
                </a:lnTo>
                <a:close/>
              </a:path>
              <a:path fill="lightenLess" w="226639" h="21600">
                <a:moveTo>
                  <a:pt x="0" y="0"/>
                </a:moveTo>
                <a:lnTo>
                  <a:pt x="226639" y="0"/>
                </a:lnTo>
                <a:lnTo>
                  <a:pt x="225239" y="1400"/>
                </a:lnTo>
                <a:lnTo>
                  <a:pt x="1400" y="1400"/>
                </a:lnTo>
                <a:close/>
              </a:path>
              <a:path fill="darken" w="226639" h="21600">
                <a:moveTo>
                  <a:pt x="226639" y="0"/>
                </a:moveTo>
                <a:lnTo>
                  <a:pt x="226639" y="21600"/>
                </a:lnTo>
                <a:lnTo>
                  <a:pt x="225239" y="20200"/>
                </a:lnTo>
                <a:lnTo>
                  <a:pt x="225239" y="1400"/>
                </a:lnTo>
                <a:close/>
              </a:path>
              <a:path fill="darkenLess" w="226639" h="21600">
                <a:moveTo>
                  <a:pt x="22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9" y="20200"/>
                </a:lnTo>
                <a:close/>
              </a:path>
              <a:path fill="lighten" w="22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328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331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346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349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352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355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358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361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364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367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370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373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376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388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399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trategies &amp;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number line is a versatile tool and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upport and explain a variety of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olve a wide range of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prepare students for alge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3431160" y="4022280"/>
            <a:ext cx="519120" cy="1120680"/>
            <a:chOff x="3431160" y="4022280"/>
            <a:chExt cx="519120" cy="1120680"/>
          </a:xfrm>
        </p:grpSpPr>
        <p:sp>
          <p:nvSpPr>
            <p:cNvPr id="420" name=""/>
            <p:cNvSpPr/>
            <p:nvPr/>
          </p:nvSpPr>
          <p:spPr>
            <a:xfrm flipV="1">
              <a:off x="37177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1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23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016080" y="3348000"/>
            <a:ext cx="533520" cy="662040"/>
            <a:chOff x="3016080" y="3348000"/>
            <a:chExt cx="533520" cy="662040"/>
          </a:xfrm>
        </p:grpSpPr>
        <p:sp>
          <p:nvSpPr>
            <p:cNvPr id="426" name=""/>
            <p:cNvSpPr/>
            <p:nvPr/>
          </p:nvSpPr>
          <p:spPr>
            <a:xfrm>
              <a:off x="3016080" y="3629160"/>
              <a:ext cx="53352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7840" y="334800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29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32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35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505320" y="3352680"/>
            <a:ext cx="244440" cy="685800"/>
            <a:chOff x="3505320" y="3352680"/>
            <a:chExt cx="244440" cy="685800"/>
          </a:xfrm>
        </p:grpSpPr>
        <p:sp>
          <p:nvSpPr>
            <p:cNvPr id="438" name=""/>
            <p:cNvSpPr/>
            <p:nvPr/>
          </p:nvSpPr>
          <p:spPr>
            <a:xfrm>
              <a:off x="355932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42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729520" y="4038120"/>
            <a:ext cx="519120" cy="1120680"/>
            <a:chOff x="2729520" y="4038120"/>
            <a:chExt cx="519120" cy="1120680"/>
          </a:xfrm>
        </p:grpSpPr>
        <p:sp>
          <p:nvSpPr>
            <p:cNvPr id="445" name=""/>
            <p:cNvSpPr/>
            <p:nvPr/>
          </p:nvSpPr>
          <p:spPr>
            <a:xfrm flipV="1">
              <a:off x="301608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29520" y="4699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tion and Subtraction strateg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Strateg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a Teaching Prog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and addi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mber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858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0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" y="33526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62120" y="3809880"/>
            <a:ext cx="4876560" cy="304920"/>
          </a:xfrm>
          <a:custGeom>
            <a:avLst/>
            <a:gdLst>
              <a:gd name="textAreaLeft" fmla="*/ 19440 w 4876560"/>
              <a:gd name="textAreaRight" fmla="*/ 4857120 w 4876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45065" h="21600">
                <a:moveTo>
                  <a:pt x="0" y="0"/>
                </a:moveTo>
                <a:lnTo>
                  <a:pt x="345065" y="0"/>
                </a:lnTo>
                <a:lnTo>
                  <a:pt x="345065" y="21600"/>
                </a:lnTo>
                <a:lnTo>
                  <a:pt x="0" y="21600"/>
                </a:lnTo>
                <a:close/>
              </a:path>
              <a:path fill="lightenLess" w="345065" h="21600">
                <a:moveTo>
                  <a:pt x="0" y="0"/>
                </a:moveTo>
                <a:lnTo>
                  <a:pt x="345065" y="0"/>
                </a:lnTo>
                <a:lnTo>
                  <a:pt x="343665" y="1400"/>
                </a:lnTo>
                <a:lnTo>
                  <a:pt x="1400" y="1400"/>
                </a:lnTo>
                <a:close/>
              </a:path>
              <a:path fill="darken" w="345065" h="21600">
                <a:moveTo>
                  <a:pt x="345065" y="0"/>
                </a:moveTo>
                <a:lnTo>
                  <a:pt x="345065" y="21600"/>
                </a:lnTo>
                <a:lnTo>
                  <a:pt x="343665" y="20200"/>
                </a:lnTo>
                <a:lnTo>
                  <a:pt x="343665" y="1400"/>
                </a:lnTo>
                <a:close/>
              </a:path>
              <a:path fill="darkenLess" w="345065" h="21600">
                <a:moveTo>
                  <a:pt x="345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65" y="20200"/>
                </a:lnTo>
                <a:close/>
              </a:path>
              <a:path fill="lighten" w="345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685800" y="4191120"/>
            <a:ext cx="5334120" cy="380880"/>
          </a:xfrm>
          <a:custGeom>
            <a:avLst/>
            <a:gdLst>
              <a:gd name="textAreaLeft" fmla="*/ 24480 w 5334120"/>
              <a:gd name="textAreaRight" fmla="*/ 5309640 w 5334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37" h="21600">
                <a:moveTo>
                  <a:pt x="0" y="0"/>
                </a:moveTo>
                <a:lnTo>
                  <a:pt x="302237" y="0"/>
                </a:lnTo>
                <a:lnTo>
                  <a:pt x="302237" y="21600"/>
                </a:lnTo>
                <a:lnTo>
                  <a:pt x="0" y="21600"/>
                </a:lnTo>
                <a:close/>
              </a:path>
              <a:path fill="lightenLess" w="302237" h="21600">
                <a:moveTo>
                  <a:pt x="0" y="0"/>
                </a:moveTo>
                <a:lnTo>
                  <a:pt x="302237" y="0"/>
                </a:lnTo>
                <a:lnTo>
                  <a:pt x="300837" y="1400"/>
                </a:lnTo>
                <a:lnTo>
                  <a:pt x="1400" y="1400"/>
                </a:lnTo>
                <a:close/>
              </a:path>
              <a:path fill="darken" w="302237" h="21600">
                <a:moveTo>
                  <a:pt x="302237" y="0"/>
                </a:moveTo>
                <a:lnTo>
                  <a:pt x="302237" y="21600"/>
                </a:lnTo>
                <a:lnTo>
                  <a:pt x="300837" y="20200"/>
                </a:lnTo>
                <a:lnTo>
                  <a:pt x="300837" y="1400"/>
                </a:lnTo>
                <a:close/>
              </a:path>
              <a:path fill="darkenLess" w="302237" h="21600">
                <a:moveTo>
                  <a:pt x="302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837" y="20200"/>
                </a:lnTo>
                <a:close/>
              </a:path>
              <a:path fill="lighten" w="302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62120" y="2895480"/>
            <a:ext cx="3047760" cy="381240"/>
          </a:xfrm>
          <a:custGeom>
            <a:avLst/>
            <a:gdLst>
              <a:gd name="textAreaLeft" fmla="*/ 24480 w 3047760"/>
              <a:gd name="textAreaRight" fmla="*/ 3023280 w 3047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35" h="21600">
                <a:moveTo>
                  <a:pt x="0" y="0"/>
                </a:moveTo>
                <a:lnTo>
                  <a:pt x="172535" y="0"/>
                </a:lnTo>
                <a:lnTo>
                  <a:pt x="172535" y="21600"/>
                </a:lnTo>
                <a:lnTo>
                  <a:pt x="0" y="21600"/>
                </a:lnTo>
                <a:close/>
              </a:path>
              <a:path fill="lightenLess" w="172535" h="21600">
                <a:moveTo>
                  <a:pt x="0" y="0"/>
                </a:moveTo>
                <a:lnTo>
                  <a:pt x="172535" y="0"/>
                </a:lnTo>
                <a:lnTo>
                  <a:pt x="171135" y="1400"/>
                </a:lnTo>
                <a:lnTo>
                  <a:pt x="1400" y="1400"/>
                </a:lnTo>
                <a:close/>
              </a:path>
              <a:path fill="darken" w="172535" h="21600">
                <a:moveTo>
                  <a:pt x="172535" y="0"/>
                </a:moveTo>
                <a:lnTo>
                  <a:pt x="172535" y="21600"/>
                </a:lnTo>
                <a:lnTo>
                  <a:pt x="171135" y="20200"/>
                </a:lnTo>
                <a:lnTo>
                  <a:pt x="171135" y="1400"/>
                </a:lnTo>
                <a:close/>
              </a:path>
              <a:path fill="darkenLess" w="172535" h="21600">
                <a:moveTo>
                  <a:pt x="17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35" y="20200"/>
                </a:lnTo>
                <a:close/>
              </a:path>
              <a:path fill="lighten" w="17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" y="4648320"/>
            <a:ext cx="5105520" cy="380880"/>
          </a:xfrm>
          <a:custGeom>
            <a:avLst/>
            <a:gdLst>
              <a:gd name="textAreaLeft" fmla="*/ 24480 w 5105520"/>
              <a:gd name="textAreaRight" fmla="*/ 5081040 w 5105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285" h="21600">
                <a:moveTo>
                  <a:pt x="0" y="0"/>
                </a:moveTo>
                <a:lnTo>
                  <a:pt x="289285" y="0"/>
                </a:lnTo>
                <a:lnTo>
                  <a:pt x="289285" y="21600"/>
                </a:lnTo>
                <a:lnTo>
                  <a:pt x="0" y="21600"/>
                </a:lnTo>
                <a:close/>
              </a:path>
              <a:path fill="lightenLess" w="289285" h="21600">
                <a:moveTo>
                  <a:pt x="0" y="0"/>
                </a:moveTo>
                <a:lnTo>
                  <a:pt x="289285" y="0"/>
                </a:lnTo>
                <a:lnTo>
                  <a:pt x="287885" y="1400"/>
                </a:lnTo>
                <a:lnTo>
                  <a:pt x="1400" y="1400"/>
                </a:lnTo>
                <a:close/>
              </a:path>
              <a:path fill="darken" w="289285" h="21600">
                <a:moveTo>
                  <a:pt x="289285" y="0"/>
                </a:moveTo>
                <a:lnTo>
                  <a:pt x="289285" y="21600"/>
                </a:lnTo>
                <a:lnTo>
                  <a:pt x="287885" y="20200"/>
                </a:lnTo>
                <a:lnTo>
                  <a:pt x="287885" y="1400"/>
                </a:lnTo>
                <a:close/>
              </a:path>
              <a:path fill="darkenLess" w="289285" h="21600">
                <a:moveTo>
                  <a:pt x="289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85" y="20200"/>
                </a:lnTo>
                <a:close/>
              </a:path>
              <a:path fill="lighten" w="289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85800" y="51055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602440" y="4022280"/>
            <a:ext cx="519120" cy="1120680"/>
            <a:chOff x="2602440" y="4022280"/>
            <a:chExt cx="519120" cy="1120680"/>
          </a:xfrm>
        </p:grpSpPr>
        <p:sp>
          <p:nvSpPr>
            <p:cNvPr id="452" name=""/>
            <p:cNvSpPr/>
            <p:nvPr/>
          </p:nvSpPr>
          <p:spPr>
            <a:xfrm flipV="1">
              <a:off x="28893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24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55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95120" y="4044960"/>
            <a:ext cx="304920" cy="604080"/>
            <a:chOff x="2895120" y="4044960"/>
            <a:chExt cx="304920" cy="604080"/>
          </a:xfrm>
        </p:grpSpPr>
        <p:sp>
          <p:nvSpPr>
            <p:cNvPr id="458" name=""/>
            <p:cNvSpPr/>
            <p:nvPr/>
          </p:nvSpPr>
          <p:spPr>
            <a:xfrm flipH="1" flipV="1">
              <a:off x="2894760" y="4044960"/>
              <a:ext cx="304920" cy="3333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33640" y="43117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6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6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67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71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200040" y="4038480"/>
            <a:ext cx="674280" cy="1374120"/>
            <a:chOff x="3200040" y="4038480"/>
            <a:chExt cx="674280" cy="1374120"/>
          </a:xfrm>
        </p:grpSpPr>
        <p:sp>
          <p:nvSpPr>
            <p:cNvPr id="474" name=""/>
            <p:cNvSpPr/>
            <p:nvPr/>
          </p:nvSpPr>
          <p:spPr>
            <a:xfrm flipH="1" flipV="1">
              <a:off x="3200040" y="40384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520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895480" y="3276720"/>
            <a:ext cx="838080" cy="755640"/>
            <a:chOff x="2895480" y="3276720"/>
            <a:chExt cx="838080" cy="755640"/>
          </a:xfrm>
        </p:grpSpPr>
        <p:sp>
          <p:nvSpPr>
            <p:cNvPr id="477" name=""/>
            <p:cNvSpPr/>
            <p:nvPr/>
          </p:nvSpPr>
          <p:spPr>
            <a:xfrm>
              <a:off x="28954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2145240" y="4022280"/>
            <a:ext cx="519120" cy="1120680"/>
            <a:chOff x="2145240" y="4022280"/>
            <a:chExt cx="519120" cy="1120680"/>
          </a:xfrm>
        </p:grpSpPr>
        <p:sp>
          <p:nvSpPr>
            <p:cNvPr id="484" name=""/>
            <p:cNvSpPr/>
            <p:nvPr/>
          </p:nvSpPr>
          <p:spPr>
            <a:xfrm flipV="1">
              <a:off x="24321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52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487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48520" y="3276720"/>
            <a:ext cx="838080" cy="749160"/>
            <a:chOff x="6248520" y="3276720"/>
            <a:chExt cx="838080" cy="749160"/>
          </a:xfrm>
        </p:grpSpPr>
        <p:sp>
          <p:nvSpPr>
            <p:cNvPr id="490" name=""/>
            <p:cNvSpPr/>
            <p:nvPr/>
          </p:nvSpPr>
          <p:spPr>
            <a:xfrm>
              <a:off x="6248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6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3276720"/>
            <a:ext cx="838080" cy="749160"/>
            <a:chOff x="7086600" y="3276720"/>
            <a:chExt cx="838080" cy="749160"/>
          </a:xfrm>
        </p:grpSpPr>
        <p:sp>
          <p:nvSpPr>
            <p:cNvPr id="493" name=""/>
            <p:cNvSpPr/>
            <p:nvPr/>
          </p:nvSpPr>
          <p:spPr>
            <a:xfrm>
              <a:off x="70866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092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3276720"/>
            <a:ext cx="457200" cy="761400"/>
            <a:chOff x="2438280" y="3276720"/>
            <a:chExt cx="457200" cy="761400"/>
          </a:xfrm>
        </p:grpSpPr>
        <p:sp>
          <p:nvSpPr>
            <p:cNvPr id="497" name=""/>
            <p:cNvSpPr/>
            <p:nvPr/>
          </p:nvSpPr>
          <p:spPr>
            <a:xfrm>
              <a:off x="24382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09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10080" y="3276720"/>
            <a:ext cx="838440" cy="749160"/>
            <a:chOff x="5410080" y="3276720"/>
            <a:chExt cx="838440" cy="749160"/>
          </a:xfrm>
        </p:grpSpPr>
        <p:sp>
          <p:nvSpPr>
            <p:cNvPr id="500" name=""/>
            <p:cNvSpPr/>
            <p:nvPr/>
          </p:nvSpPr>
          <p:spPr>
            <a:xfrm>
              <a:off x="54100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386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72000" y="3276720"/>
            <a:ext cx="838080" cy="749160"/>
            <a:chOff x="4572000" y="3276720"/>
            <a:chExt cx="838080" cy="749160"/>
          </a:xfrm>
        </p:grpSpPr>
        <p:sp>
          <p:nvSpPr>
            <p:cNvPr id="503" name=""/>
            <p:cNvSpPr/>
            <p:nvPr/>
          </p:nvSpPr>
          <p:spPr>
            <a:xfrm>
              <a:off x="45720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02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33920" y="3276720"/>
            <a:ext cx="838080" cy="749160"/>
            <a:chOff x="3733920" y="3276720"/>
            <a:chExt cx="838080" cy="749160"/>
          </a:xfrm>
        </p:grpSpPr>
        <p:sp>
          <p:nvSpPr>
            <p:cNvPr id="506" name=""/>
            <p:cNvSpPr/>
            <p:nvPr/>
          </p:nvSpPr>
          <p:spPr>
            <a:xfrm>
              <a:off x="37339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2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895480" y="3276720"/>
            <a:ext cx="838440" cy="749160"/>
            <a:chOff x="2895480" y="3276720"/>
            <a:chExt cx="838440" cy="749160"/>
          </a:xfrm>
        </p:grpSpPr>
        <p:sp>
          <p:nvSpPr>
            <p:cNvPr id="509" name=""/>
            <p:cNvSpPr/>
            <p:nvPr/>
          </p:nvSpPr>
          <p:spPr>
            <a:xfrm>
              <a:off x="28954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240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12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2 - 65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4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5345640" y="4022280"/>
            <a:ext cx="519120" cy="1120680"/>
            <a:chOff x="5345640" y="4022280"/>
            <a:chExt cx="519120" cy="1120680"/>
          </a:xfrm>
        </p:grpSpPr>
        <p:sp>
          <p:nvSpPr>
            <p:cNvPr id="519" name=""/>
            <p:cNvSpPr/>
            <p:nvPr/>
          </p:nvSpPr>
          <p:spPr>
            <a:xfrm flipV="1">
              <a:off x="5632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56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522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5880" y="3276720"/>
            <a:ext cx="838440" cy="749160"/>
            <a:chOff x="6095880" y="3276720"/>
            <a:chExt cx="838440" cy="749160"/>
          </a:xfrm>
        </p:grpSpPr>
        <p:sp>
          <p:nvSpPr>
            <p:cNvPr id="525" name=""/>
            <p:cNvSpPr/>
            <p:nvPr/>
          </p:nvSpPr>
          <p:spPr>
            <a:xfrm>
              <a:off x="60958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34320" y="3276720"/>
            <a:ext cx="838080" cy="749160"/>
            <a:chOff x="6934320" y="3276720"/>
            <a:chExt cx="838080" cy="749160"/>
          </a:xfrm>
        </p:grpSpPr>
        <p:sp>
          <p:nvSpPr>
            <p:cNvPr id="528" name=""/>
            <p:cNvSpPr/>
            <p:nvPr/>
          </p:nvSpPr>
          <p:spPr>
            <a:xfrm>
              <a:off x="69343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86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638680" y="3276720"/>
            <a:ext cx="457200" cy="761400"/>
            <a:chOff x="5638680" y="3276720"/>
            <a:chExt cx="457200" cy="761400"/>
          </a:xfrm>
        </p:grpSpPr>
        <p:sp>
          <p:nvSpPr>
            <p:cNvPr id="532" name=""/>
            <p:cNvSpPr/>
            <p:nvPr/>
          </p:nvSpPr>
          <p:spPr>
            <a:xfrm>
              <a:off x="56386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513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709040" y="3352680"/>
            <a:ext cx="244440" cy="685800"/>
            <a:chOff x="7709040" y="3352680"/>
            <a:chExt cx="244440" cy="685800"/>
          </a:xfrm>
        </p:grpSpPr>
        <p:sp>
          <p:nvSpPr>
            <p:cNvPr id="535" name=""/>
            <p:cNvSpPr/>
            <p:nvPr/>
          </p:nvSpPr>
          <p:spPr>
            <a:xfrm>
              <a:off x="776304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904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295280" y="5257800"/>
            <a:ext cx="6553440" cy="914400"/>
            <a:chOff x="1295280" y="5257800"/>
            <a:chExt cx="6553440" cy="914400"/>
          </a:xfrm>
        </p:grpSpPr>
        <p:sp>
          <p:nvSpPr>
            <p:cNvPr id="538" name=""/>
            <p:cNvSpPr/>
            <p:nvPr/>
          </p:nvSpPr>
          <p:spPr>
            <a:xfrm>
              <a:off x="1295280" y="5257800"/>
              <a:ext cx="655344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5+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=  9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9900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93160" y="4022280"/>
            <a:ext cx="519120" cy="1120680"/>
            <a:chOff x="3593160" y="4022280"/>
            <a:chExt cx="519120" cy="1120680"/>
          </a:xfrm>
        </p:grpSpPr>
        <p:sp>
          <p:nvSpPr>
            <p:cNvPr id="545" name=""/>
            <p:cNvSpPr/>
            <p:nvPr/>
          </p:nvSpPr>
          <p:spPr>
            <a:xfrm flipV="1">
              <a:off x="3880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3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48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24280" y="3327480"/>
            <a:ext cx="685800" cy="685440"/>
            <a:chOff x="4724280" y="3327480"/>
            <a:chExt cx="685800" cy="685440"/>
          </a:xfrm>
        </p:grpSpPr>
        <p:sp>
          <p:nvSpPr>
            <p:cNvPr id="551" name=""/>
            <p:cNvSpPr/>
            <p:nvPr/>
          </p:nvSpPr>
          <p:spPr>
            <a:xfrm>
              <a:off x="4724280" y="3606120"/>
              <a:ext cx="685800" cy="4068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11120" y="33274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6200" y="3276720"/>
            <a:ext cx="838080" cy="755640"/>
            <a:chOff x="3886200" y="3276720"/>
            <a:chExt cx="838080" cy="755640"/>
          </a:xfrm>
        </p:grpSpPr>
        <p:sp>
          <p:nvSpPr>
            <p:cNvPr id="555" name=""/>
            <p:cNvSpPr/>
            <p:nvPr/>
          </p:nvSpPr>
          <p:spPr>
            <a:xfrm>
              <a:off x="38862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75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58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43 + 18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73760" y="4022280"/>
            <a:ext cx="519120" cy="1120680"/>
            <a:chOff x="1373760" y="4022280"/>
            <a:chExt cx="519120" cy="1120680"/>
          </a:xfrm>
        </p:grpSpPr>
        <p:sp>
          <p:nvSpPr>
            <p:cNvPr id="566" name=""/>
            <p:cNvSpPr/>
            <p:nvPr/>
          </p:nvSpPr>
          <p:spPr>
            <a:xfrm flipV="1">
              <a:off x="16606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3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69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029200" y="3416400"/>
            <a:ext cx="417600" cy="615960"/>
            <a:chOff x="5029200" y="3416400"/>
            <a:chExt cx="417600" cy="615960"/>
          </a:xfrm>
        </p:grpSpPr>
        <p:sp>
          <p:nvSpPr>
            <p:cNvPr id="572" name=""/>
            <p:cNvSpPr/>
            <p:nvPr/>
          </p:nvSpPr>
          <p:spPr>
            <a:xfrm>
              <a:off x="5029200" y="3676680"/>
              <a:ext cx="380880" cy="35568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3480" y="341640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676520" y="3276720"/>
            <a:ext cx="838080" cy="755640"/>
            <a:chOff x="1676520" y="3276720"/>
            <a:chExt cx="838080" cy="755640"/>
          </a:xfrm>
        </p:grpSpPr>
        <p:sp>
          <p:nvSpPr>
            <p:cNvPr id="576" name=""/>
            <p:cNvSpPr/>
            <p:nvPr/>
          </p:nvSpPr>
          <p:spPr>
            <a:xfrm>
              <a:off x="16765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47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79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43  =  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1008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514600" y="3276720"/>
            <a:ext cx="838080" cy="755640"/>
            <a:chOff x="2514600" y="3276720"/>
            <a:chExt cx="838080" cy="755640"/>
          </a:xfrm>
        </p:grpSpPr>
        <p:sp>
          <p:nvSpPr>
            <p:cNvPr id="582" name=""/>
            <p:cNvSpPr/>
            <p:nvPr/>
          </p:nvSpPr>
          <p:spPr>
            <a:xfrm>
              <a:off x="25146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859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352680" y="3276720"/>
            <a:ext cx="838080" cy="755640"/>
            <a:chOff x="3352680" y="3276720"/>
            <a:chExt cx="838080" cy="755640"/>
          </a:xfrm>
        </p:grpSpPr>
        <p:sp>
          <p:nvSpPr>
            <p:cNvPr id="585" name=""/>
            <p:cNvSpPr/>
            <p:nvPr/>
          </p:nvSpPr>
          <p:spPr>
            <a:xfrm>
              <a:off x="3352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191120" y="3276720"/>
            <a:ext cx="838080" cy="755640"/>
            <a:chOff x="4191120" y="3276720"/>
            <a:chExt cx="838080" cy="755640"/>
          </a:xfrm>
        </p:grpSpPr>
        <p:sp>
          <p:nvSpPr>
            <p:cNvPr id="588" name=""/>
            <p:cNvSpPr/>
            <p:nvPr/>
          </p:nvSpPr>
          <p:spPr>
            <a:xfrm>
              <a:off x="41911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2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2135880" y="4022280"/>
            <a:ext cx="519120" cy="1120680"/>
            <a:chOff x="2135880" y="4022280"/>
            <a:chExt cx="519120" cy="1120680"/>
          </a:xfrm>
        </p:grpSpPr>
        <p:sp>
          <p:nvSpPr>
            <p:cNvPr id="595" name=""/>
            <p:cNvSpPr/>
            <p:nvPr/>
          </p:nvSpPr>
          <p:spPr>
            <a:xfrm flipV="1">
              <a:off x="24228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35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63400" y="4022280"/>
            <a:ext cx="519120" cy="1120680"/>
            <a:chOff x="5963400" y="4022280"/>
            <a:chExt cx="519120" cy="1120680"/>
          </a:xfrm>
        </p:grpSpPr>
        <p:sp>
          <p:nvSpPr>
            <p:cNvPr id="598" name=""/>
            <p:cNvSpPr/>
            <p:nvPr/>
          </p:nvSpPr>
          <p:spPr>
            <a:xfrm flipV="1">
              <a:off x="62499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63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044960" y="3276720"/>
            <a:ext cx="838080" cy="755640"/>
            <a:chOff x="4044960" y="3276720"/>
            <a:chExt cx="838080" cy="755640"/>
          </a:xfrm>
        </p:grpSpPr>
        <p:sp>
          <p:nvSpPr>
            <p:cNvPr id="601" name=""/>
            <p:cNvSpPr/>
            <p:nvPr/>
          </p:nvSpPr>
          <p:spPr>
            <a:xfrm>
              <a:off x="404496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632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889520" y="3276720"/>
            <a:ext cx="838080" cy="749160"/>
            <a:chOff x="4889520" y="3276720"/>
            <a:chExt cx="838080" cy="749160"/>
          </a:xfrm>
        </p:grpSpPr>
        <p:sp>
          <p:nvSpPr>
            <p:cNvPr id="604" name=""/>
            <p:cNvSpPr/>
            <p:nvPr/>
          </p:nvSpPr>
          <p:spPr>
            <a:xfrm>
              <a:off x="4889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17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15000" y="3276720"/>
            <a:ext cx="533520" cy="761040"/>
            <a:chOff x="5715000" y="3276720"/>
            <a:chExt cx="533520" cy="761040"/>
          </a:xfrm>
        </p:grpSpPr>
        <p:sp>
          <p:nvSpPr>
            <p:cNvPr id="608" name=""/>
            <p:cNvSpPr/>
            <p:nvPr/>
          </p:nvSpPr>
          <p:spPr>
            <a:xfrm>
              <a:off x="5715000" y="3589920"/>
              <a:ext cx="53352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5160" y="3276720"/>
              <a:ext cx="28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241800" y="3276720"/>
            <a:ext cx="838080" cy="755640"/>
            <a:chOff x="3241800" y="3276720"/>
            <a:chExt cx="838080" cy="755640"/>
          </a:xfrm>
        </p:grpSpPr>
        <p:sp>
          <p:nvSpPr>
            <p:cNvPr id="611" name=""/>
            <p:cNvSpPr/>
            <p:nvPr/>
          </p:nvSpPr>
          <p:spPr>
            <a:xfrm>
              <a:off x="32418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13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38280" y="3276720"/>
            <a:ext cx="838440" cy="755640"/>
            <a:chOff x="2438280" y="3276720"/>
            <a:chExt cx="838440" cy="755640"/>
          </a:xfrm>
        </p:grpSpPr>
        <p:sp>
          <p:nvSpPr>
            <p:cNvPr id="614" name=""/>
            <p:cNvSpPr/>
            <p:nvPr/>
          </p:nvSpPr>
          <p:spPr>
            <a:xfrm>
              <a:off x="2438280" y="358776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10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17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+ 27 = 27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5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3669120" y="4022280"/>
            <a:ext cx="519120" cy="1120680"/>
            <a:chOff x="3669120" y="4022280"/>
            <a:chExt cx="519120" cy="1120680"/>
          </a:xfrm>
        </p:grpSpPr>
        <p:sp>
          <p:nvSpPr>
            <p:cNvPr id="625" name=""/>
            <p:cNvSpPr/>
            <p:nvPr/>
          </p:nvSpPr>
          <p:spPr>
            <a:xfrm flipV="1">
              <a:off x="3956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691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945760" y="4022280"/>
            <a:ext cx="519120" cy="1120680"/>
            <a:chOff x="5945760" y="4022280"/>
            <a:chExt cx="519120" cy="1120680"/>
          </a:xfrm>
        </p:grpSpPr>
        <p:sp>
          <p:nvSpPr>
            <p:cNvPr id="628" name=""/>
            <p:cNvSpPr/>
            <p:nvPr/>
          </p:nvSpPr>
          <p:spPr>
            <a:xfrm flipV="1">
              <a:off x="623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5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63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63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62520" y="3276720"/>
            <a:ext cx="609480" cy="761040"/>
            <a:chOff x="3962520" y="3276720"/>
            <a:chExt cx="609480" cy="761040"/>
          </a:xfrm>
        </p:grpSpPr>
        <p:sp>
          <p:nvSpPr>
            <p:cNvPr id="638" name=""/>
            <p:cNvSpPr/>
            <p:nvPr/>
          </p:nvSpPr>
          <p:spPr>
            <a:xfrm>
              <a:off x="3962520" y="3589920"/>
              <a:ext cx="60948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8160" y="3276720"/>
              <a:ext cx="33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41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72 - 2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 +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7684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685400" y="4022280"/>
            <a:ext cx="519120" cy="1120680"/>
            <a:chOff x="4685400" y="4022280"/>
            <a:chExt cx="519120" cy="1120680"/>
          </a:xfrm>
        </p:grpSpPr>
        <p:sp>
          <p:nvSpPr>
            <p:cNvPr id="649" name=""/>
            <p:cNvSpPr/>
            <p:nvPr/>
          </p:nvSpPr>
          <p:spPr>
            <a:xfrm flipV="1">
              <a:off x="497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85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69520" y="4022280"/>
            <a:ext cx="519120" cy="1120680"/>
            <a:chOff x="6869520" y="4022280"/>
            <a:chExt cx="519120" cy="1120680"/>
          </a:xfrm>
        </p:grpSpPr>
        <p:sp>
          <p:nvSpPr>
            <p:cNvPr id="652" name=""/>
            <p:cNvSpPr/>
            <p:nvPr/>
          </p:nvSpPr>
          <p:spPr>
            <a:xfrm flipV="1">
              <a:off x="7156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5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6386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803920" y="3276720"/>
            <a:ext cx="838080" cy="755640"/>
            <a:chOff x="5803920" y="3276720"/>
            <a:chExt cx="838080" cy="755640"/>
          </a:xfrm>
        </p:grpSpPr>
        <p:sp>
          <p:nvSpPr>
            <p:cNvPr id="656" name=""/>
            <p:cNvSpPr/>
            <p:nvPr/>
          </p:nvSpPr>
          <p:spPr>
            <a:xfrm>
              <a:off x="58039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752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81680" y="3276720"/>
            <a:ext cx="838080" cy="755640"/>
            <a:chOff x="4981680" y="3276720"/>
            <a:chExt cx="838080" cy="755640"/>
          </a:xfrm>
        </p:grpSpPr>
        <p:sp>
          <p:nvSpPr>
            <p:cNvPr id="659" name=""/>
            <p:cNvSpPr/>
            <p:nvPr/>
          </p:nvSpPr>
          <p:spPr>
            <a:xfrm>
              <a:off x="4981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53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642000" y="3263760"/>
            <a:ext cx="533520" cy="761400"/>
            <a:chOff x="6642000" y="3263760"/>
            <a:chExt cx="533520" cy="761400"/>
          </a:xfrm>
        </p:grpSpPr>
        <p:sp>
          <p:nvSpPr>
            <p:cNvPr id="662" name=""/>
            <p:cNvSpPr/>
            <p:nvPr/>
          </p:nvSpPr>
          <p:spPr>
            <a:xfrm>
              <a:off x="6642000" y="3587040"/>
              <a:ext cx="53352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73760" y="326376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7 +         = 8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1600" y="4800600"/>
            <a:ext cx="6553080" cy="1828800"/>
            <a:chOff x="1371600" y="4800600"/>
            <a:chExt cx="6553080" cy="1828800"/>
          </a:xfrm>
        </p:grpSpPr>
        <p:sp>
          <p:nvSpPr>
            <p:cNvPr id="670" name=""/>
            <p:cNvSpPr/>
            <p:nvPr/>
          </p:nvSpPr>
          <p:spPr>
            <a:xfrm>
              <a:off x="1371600" y="48006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1600" y="5715000"/>
              <a:ext cx="655308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3412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74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 Fra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o-on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wit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Multipl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- x = 27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x = -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48006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-26 ÷ 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70120" y="5638680"/>
            <a:ext cx="672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x +x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         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48006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27    = 27 -27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24160" y="56386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       =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    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5715000"/>
            <a:ext cx="39625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4800600"/>
            <a:ext cx="6553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97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334120" y="57150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4114800"/>
            <a:ext cx="3962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32004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2004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200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114800"/>
            <a:ext cx="6553080" cy="76212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371600" y="3200400"/>
            <a:ext cx="6553080" cy="914400"/>
            <a:chOff x="1371600" y="3200400"/>
            <a:chExt cx="6553080" cy="914400"/>
          </a:xfrm>
        </p:grpSpPr>
        <p:sp>
          <p:nvSpPr>
            <p:cNvPr id="714" name=""/>
            <p:cNvSpPr/>
            <p:nvPr/>
          </p:nvSpPr>
          <p:spPr>
            <a:xfrm>
              <a:off x="1371600" y="3200400"/>
              <a:ext cx="2590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3200400"/>
              <a:ext cx="2590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53080" y="3200400"/>
              <a:ext cx="13716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114800"/>
            <a:ext cx="19047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3200400"/>
            <a:ext cx="3276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3200400"/>
            <a:ext cx="32763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71600" y="4114800"/>
            <a:ext cx="3276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411480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50292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 =  X +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71600" y="59436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 =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8 - X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1680" y="4114800"/>
            <a:ext cx="990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1600" y="4114800"/>
            <a:ext cx="5410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explore links between numeracy and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show that images used to help solve number problems also develop understanding for solving complicate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371600" y="4114800"/>
            <a:ext cx="6400800" cy="914400"/>
            <a:chOff x="1371600" y="4114800"/>
            <a:chExt cx="6400800" cy="914400"/>
          </a:xfrm>
        </p:grpSpPr>
        <p:sp>
          <p:nvSpPr>
            <p:cNvPr id="764" name=""/>
            <p:cNvSpPr/>
            <p:nvPr/>
          </p:nvSpPr>
          <p:spPr>
            <a:xfrm>
              <a:off x="13716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3200400"/>
            <a:ext cx="106704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371600" y="2133720"/>
            <a:ext cx="5867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+ 3 =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200400"/>
            <a:ext cx="22860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4114800"/>
            <a:ext cx="58672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581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105520" y="5257800"/>
            <a:ext cx="2819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3429000"/>
            <a:ext cx="43434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343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124080" y="2057400"/>
            <a:ext cx="3810240" cy="1143000"/>
            <a:chOff x="3124080" y="2057400"/>
            <a:chExt cx="3810240" cy="1143000"/>
          </a:xfrm>
        </p:grpSpPr>
        <p:sp>
          <p:nvSpPr>
            <p:cNvPr id="782" name=""/>
            <p:cNvSpPr/>
            <p:nvPr/>
          </p:nvSpPr>
          <p:spPr>
            <a:xfrm>
              <a:off x="3124080" y="205740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3733920" y="2133720"/>
                  <a:ext cx="27050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4" name=""/>
            <p:cNvSpPr/>
            <p:nvPr/>
          </p:nvSpPr>
          <p:spPr>
            <a:xfrm>
              <a:off x="3759120" y="266724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09680" y="4191120"/>
            <a:ext cx="4343400" cy="1066680"/>
            <a:chOff x="2209680" y="4191120"/>
            <a:chExt cx="4343400" cy="1066680"/>
          </a:xfrm>
        </p:grpSpPr>
        <p:grpSp>
          <p:nvGrpSpPr>
            <p:cNvPr id="786" name=""/>
            <p:cNvGrpSpPr/>
            <p:nvPr/>
          </p:nvGrpSpPr>
          <p:grpSpPr>
            <a:xfrm>
              <a:off x="5105520" y="4191120"/>
              <a:ext cx="1447560" cy="1066680"/>
              <a:chOff x="5105520" y="4191120"/>
              <a:chExt cx="1447560" cy="1066680"/>
            </a:xfrm>
          </p:grpSpPr>
          <p:sp>
            <p:nvSpPr>
              <p:cNvPr id="787" name=""/>
              <p:cNvSpPr/>
              <p:nvPr/>
            </p:nvSpPr>
            <p:spPr>
              <a:xfrm>
                <a:off x="510552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5715000" y="4191120"/>
                <a:ext cx="317520" cy="1015920"/>
                <a:chOff x="571500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9" name=""/>
                    <p:cNvSpPr txBox="1"/>
                    <p:nvPr/>
                  </p:nvSpPr>
                  <p:spPr>
                    <a:xfrm>
                      <a:off x="571500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0" name=""/>
                <p:cNvSpPr/>
                <p:nvPr/>
              </p:nvSpPr>
              <p:spPr>
                <a:xfrm>
                  <a:off x="572760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3657600" y="4191120"/>
              <a:ext cx="1447560" cy="1066680"/>
              <a:chOff x="3657600" y="4191120"/>
              <a:chExt cx="1447560" cy="1066680"/>
            </a:xfrm>
          </p:grpSpPr>
          <p:sp>
            <p:nvSpPr>
              <p:cNvPr id="792" name=""/>
              <p:cNvSpPr/>
              <p:nvPr/>
            </p:nvSpPr>
            <p:spPr>
              <a:xfrm>
                <a:off x="365760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267080" y="4191120"/>
                <a:ext cx="317520" cy="1015920"/>
                <a:chOff x="426708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426708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5" name=""/>
                <p:cNvSpPr/>
                <p:nvPr/>
              </p:nvSpPr>
              <p:spPr>
                <a:xfrm>
                  <a:off x="427968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2209680" y="4191120"/>
              <a:ext cx="1447560" cy="1066680"/>
              <a:chOff x="2209680" y="4191120"/>
              <a:chExt cx="1447560" cy="1066680"/>
            </a:xfrm>
          </p:grpSpPr>
          <p:sp>
            <p:nvSpPr>
              <p:cNvPr id="797" name=""/>
              <p:cNvSpPr/>
              <p:nvPr/>
            </p:nvSpPr>
            <p:spPr>
              <a:xfrm>
                <a:off x="220968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2819160" y="4191120"/>
                <a:ext cx="317520" cy="1015920"/>
                <a:chOff x="281916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9" name=""/>
                    <p:cNvSpPr txBox="1"/>
                    <p:nvPr/>
                  </p:nvSpPr>
                  <p:spPr>
                    <a:xfrm>
                      <a:off x="281916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00" name=""/>
                <p:cNvSpPr/>
                <p:nvPr/>
              </p:nvSpPr>
              <p:spPr>
                <a:xfrm>
                  <a:off x="283176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819520" y="3352680"/>
            <a:ext cx="35049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3352680"/>
            <a:ext cx="83844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124080" y="1981080"/>
            <a:ext cx="3810240" cy="1143000"/>
            <a:chOff x="3124080" y="1981080"/>
            <a:chExt cx="3810240" cy="1143000"/>
          </a:xfrm>
        </p:grpSpPr>
        <p:sp>
          <p:nvSpPr>
            <p:cNvPr id="805" name=""/>
            <p:cNvSpPr/>
            <p:nvPr/>
          </p:nvSpPr>
          <p:spPr>
            <a:xfrm>
              <a:off x="3124080" y="198108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3924360" y="2057400"/>
                  <a:ext cx="232416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"/>
            <p:cNvSpPr/>
            <p:nvPr/>
          </p:nvSpPr>
          <p:spPr>
            <a:xfrm>
              <a:off x="3911760" y="2590920"/>
              <a:ext cx="96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819520" y="4267080"/>
            <a:ext cx="4343400" cy="914400"/>
            <a:chOff x="2819520" y="4267080"/>
            <a:chExt cx="4343400" cy="914400"/>
          </a:xfrm>
        </p:grpSpPr>
        <p:sp>
          <p:nvSpPr>
            <p:cNvPr id="809" name=""/>
            <p:cNvSpPr/>
            <p:nvPr/>
          </p:nvSpPr>
          <p:spPr>
            <a:xfrm>
              <a:off x="5715360" y="4267080"/>
              <a:ext cx="1447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744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1952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19520" y="5181480"/>
            <a:ext cx="4343400" cy="914400"/>
            <a:chOff x="2819520" y="5181480"/>
            <a:chExt cx="4343400" cy="914400"/>
          </a:xfrm>
        </p:grpSpPr>
        <p:sp>
          <p:nvSpPr>
            <p:cNvPr id="813" name=""/>
            <p:cNvSpPr/>
            <p:nvPr/>
          </p:nvSpPr>
          <p:spPr>
            <a:xfrm>
              <a:off x="5715360" y="5181480"/>
              <a:ext cx="144756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744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swers Only Plea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6 +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1 –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4 + ?  =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8 + 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000 – 8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03 -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47 + y =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53 - m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+ 1 = 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- 1 = 8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6 + 7 = ?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88 + x = 120 +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numb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23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127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130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4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50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67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72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89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92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95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98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01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0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0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1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1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1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2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32:11Z</dcterms:created>
  <dc:creator>Murray Britt</dc:creator>
  <dc:description/>
  <dc:language>en-US</dc:language>
  <cp:lastModifiedBy>Support Services</cp:lastModifiedBy>
  <cp:lastPrinted>2004-08-30T02:31:11Z</cp:lastPrinted>
  <dcterms:modified xsi:type="dcterms:W3CDTF">2004-10-22T00:54:42Z</dcterms:modified>
  <cp:revision>46</cp:revision>
  <dc:subject/>
  <dc:title>Number Strategy 1</dc:title>
</cp:coreProperties>
</file>