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E08F-FBD5-4F91-B7FC-74C8210C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B71-6BFD-47C9-97C3-6F6D213A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65B9-F88A-42C0-9A78-6A23C012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95C-385D-419C-826A-3C6CCCC2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B6FA-FC5F-486A-B84A-994245F4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B80E-5EF7-4482-8055-2939F0AC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D8D6-6201-4C49-90AB-A167412E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9995-0CB3-4511-894A-900ABBC0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0BA5-1A09-4053-90EA-B11DB152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8D89-82F6-4580-9913-E6FB1678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D57F-E2B6-425D-9B0A-63187CDB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2C9D-1AAE-4FF6-9639-35FB281F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453B-9C92-4B4B-A5B4-2A877B01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5267-E584-45AD-95FB-83177023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02B1-110D-48A8-BC6F-445D08E4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437A-036D-4882-A656-79B7722C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B79A-B0E7-4F36-9B0F-8F1D90A7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DC4C-5B8B-4633-8492-2373542B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F86-E682-43D4-B80F-0C555BA9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B7B-ADF3-4D76-9B2E-74346F51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B7DD-E8F0-4086-9050-5690F534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AFC-4C58-4904-AE0F-226D5426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D656-06CC-47A1-ACEC-225B18D7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D589-2589-44F8-8040-6A84BA14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1454-3937-4A0B-9AF8-71DC6720B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0F7F-78E2-40EE-81D0-41E1E9D4C30E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28.xml"/><Relationship Id="rId3" Type="http://schemas.openxmlformats.org/officeDocument/2006/relationships/slide" Target="slide18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8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11.xml"/><Relationship Id="rId6" Type="http://schemas.openxmlformats.org/officeDocument/2006/relationships/slide" Target="slide6.xml"/><Relationship Id="rId7" Type="http://schemas.openxmlformats.org/officeDocument/2006/relationships/slide" Target="slide28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The Numeracy Professional Development Project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Secondary Schoo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00200" y="51051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vin Han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Coordinat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ary Numeracy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05320"/>
            <a:ext cx="6858000" cy="129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ddition and Subtrac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couraging Imaging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225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8 +         = 54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363204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87600" y="2819520"/>
            <a:ext cx="6260760" cy="1516680"/>
            <a:chOff x="1587600" y="2819520"/>
            <a:chExt cx="6260760" cy="1516680"/>
          </a:xfrm>
        </p:grpSpPr>
        <p:grpSp>
          <p:nvGrpSpPr>
            <p:cNvPr id="230" name=""/>
            <p:cNvGrpSpPr/>
            <p:nvPr/>
          </p:nvGrpSpPr>
          <p:grpSpPr>
            <a:xfrm>
              <a:off x="1587600" y="3632040"/>
              <a:ext cx="339120" cy="621720"/>
              <a:chOff x="1587600" y="3632040"/>
              <a:chExt cx="339120" cy="621720"/>
            </a:xfrm>
          </p:grpSpPr>
          <p:sp>
            <p:nvSpPr>
              <p:cNvPr id="231" name=""/>
              <p:cNvSpPr/>
              <p:nvPr/>
            </p:nvSpPr>
            <p:spPr>
              <a:xfrm>
                <a:off x="1587600" y="388764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82640" y="3632040"/>
                <a:ext cx="0" cy="14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548600" y="3632040"/>
              <a:ext cx="339120" cy="621720"/>
              <a:chOff x="4548600" y="3632040"/>
              <a:chExt cx="339120" cy="621720"/>
            </a:xfrm>
          </p:grpSpPr>
          <p:sp>
            <p:nvSpPr>
              <p:cNvPr id="234" name=""/>
              <p:cNvSpPr/>
              <p:nvPr/>
            </p:nvSpPr>
            <p:spPr>
              <a:xfrm>
                <a:off x="4548600" y="388764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643280" y="3632040"/>
                <a:ext cx="0" cy="14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7509240" y="3632040"/>
              <a:ext cx="339120" cy="621720"/>
              <a:chOff x="7509240" y="3632040"/>
              <a:chExt cx="339120" cy="621720"/>
            </a:xfrm>
          </p:grpSpPr>
          <p:sp>
            <p:nvSpPr>
              <p:cNvPr id="237" name=""/>
              <p:cNvSpPr/>
              <p:nvPr/>
            </p:nvSpPr>
            <p:spPr>
              <a:xfrm>
                <a:off x="7509240" y="388764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604280" y="3632040"/>
                <a:ext cx="0" cy="14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2593080" y="2819520"/>
              <a:ext cx="4329000" cy="1516680"/>
              <a:chOff x="2593080" y="2819520"/>
              <a:chExt cx="4329000" cy="151668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2593080" y="3615840"/>
                <a:ext cx="519120" cy="704520"/>
                <a:chOff x="2593080" y="3615840"/>
                <a:chExt cx="519120" cy="704520"/>
              </a:xfrm>
            </p:grpSpPr>
            <p:sp>
              <p:nvSpPr>
                <p:cNvPr id="241" name=""/>
                <p:cNvSpPr/>
                <p:nvPr/>
              </p:nvSpPr>
              <p:spPr>
                <a:xfrm flipV="1">
                  <a:off x="2879640" y="3615840"/>
                  <a:ext cx="0" cy="320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593080" y="386064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870280" y="2946240"/>
                <a:ext cx="272880" cy="685800"/>
                <a:chOff x="2870280" y="2946240"/>
                <a:chExt cx="272880" cy="6858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914560" y="3251160"/>
                  <a:ext cx="228600" cy="380880"/>
                </a:xfrm>
                <a:custGeom>
                  <a:avLst/>
                  <a:gdLst/>
                  <a:ahLst/>
                  <a:rect l="l" t="t" r="r" b="b"/>
                  <a:pathLst>
                    <a:path w="240" h="168">
                      <a:moveTo>
                        <a:pt x="0" y="168"/>
                      </a:moveTo>
                      <a:cubicBezTo>
                        <a:pt x="8" y="108"/>
                        <a:pt x="16" y="48"/>
                        <a:pt x="48" y="24"/>
                      </a:cubicBezTo>
                      <a:cubicBezTo>
                        <a:pt x="80" y="0"/>
                        <a:pt x="160" y="0"/>
                        <a:pt x="192" y="24"/>
                      </a:cubicBezTo>
                      <a:cubicBezTo>
                        <a:pt x="224" y="48"/>
                        <a:pt x="232" y="108"/>
                        <a:pt x="240" y="16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870280" y="2946240"/>
                  <a:ext cx="244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149640" y="2825640"/>
                <a:ext cx="1498680" cy="806400"/>
                <a:chOff x="3149640" y="2825640"/>
                <a:chExt cx="1498680" cy="8064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149640" y="3098880"/>
                  <a:ext cx="1498680" cy="533160"/>
                </a:xfrm>
                <a:custGeom>
                  <a:avLst/>
                  <a:gdLst/>
                  <a:ahLst/>
                  <a:rect l="l" t="t" r="r" b="b"/>
                  <a:pathLst>
                    <a:path w="528" h="280">
                      <a:moveTo>
                        <a:pt x="0" y="280"/>
                      </a:moveTo>
                      <a:cubicBezTo>
                        <a:pt x="40" y="180"/>
                        <a:pt x="80" y="80"/>
                        <a:pt x="144" y="40"/>
                      </a:cubicBezTo>
                      <a:cubicBezTo>
                        <a:pt x="208" y="0"/>
                        <a:pt x="320" y="0"/>
                        <a:pt x="384" y="40"/>
                      </a:cubicBezTo>
                      <a:cubicBezTo>
                        <a:pt x="448" y="80"/>
                        <a:pt x="488" y="180"/>
                        <a:pt x="528" y="2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695760" y="28256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6140520" y="2901960"/>
                <a:ext cx="564840" cy="730080"/>
                <a:chOff x="6140520" y="2901960"/>
                <a:chExt cx="564840" cy="7300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6140520" y="3174840"/>
                  <a:ext cx="564840" cy="457200"/>
                </a:xfrm>
                <a:custGeom>
                  <a:avLst/>
                  <a:gdLst/>
                  <a:ahLst/>
                  <a:rect l="l" t="t" r="r" b="b"/>
                  <a:pathLst>
                    <a:path w="240" h="168">
                      <a:moveTo>
                        <a:pt x="0" y="168"/>
                      </a:moveTo>
                      <a:cubicBezTo>
                        <a:pt x="8" y="108"/>
                        <a:pt x="16" y="48"/>
                        <a:pt x="48" y="24"/>
                      </a:cubicBezTo>
                      <a:cubicBezTo>
                        <a:pt x="80" y="0"/>
                        <a:pt x="160" y="0"/>
                        <a:pt x="192" y="24"/>
                      </a:cubicBezTo>
                      <a:cubicBezTo>
                        <a:pt x="224" y="48"/>
                        <a:pt x="232" y="108"/>
                        <a:pt x="240" y="16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226560" y="2901960"/>
                  <a:ext cx="302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067200" y="3632040"/>
                <a:ext cx="339120" cy="621720"/>
                <a:chOff x="3067200" y="3632040"/>
                <a:chExt cx="339120" cy="6217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067200" y="3887640"/>
                  <a:ext cx="3391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164040" y="3632040"/>
                  <a:ext cx="0" cy="14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6027840" y="3632040"/>
                <a:ext cx="339120" cy="621720"/>
                <a:chOff x="6027840" y="3632040"/>
                <a:chExt cx="339120" cy="6217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027840" y="3887640"/>
                  <a:ext cx="3391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124680" y="3632040"/>
                  <a:ext cx="0" cy="14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648320" y="2819520"/>
                <a:ext cx="1498320" cy="812520"/>
                <a:chOff x="4648320" y="2819520"/>
                <a:chExt cx="1498320" cy="8125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4440" y="28195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648320" y="3098880"/>
                  <a:ext cx="1498320" cy="533160"/>
                </a:xfrm>
                <a:custGeom>
                  <a:avLst/>
                  <a:gdLst/>
                  <a:ahLst/>
                  <a:rect l="l" t="t" r="r" b="b"/>
                  <a:pathLst>
                    <a:path w="528" h="280">
                      <a:moveTo>
                        <a:pt x="0" y="280"/>
                      </a:moveTo>
                      <a:cubicBezTo>
                        <a:pt x="40" y="180"/>
                        <a:pt x="80" y="80"/>
                        <a:pt x="144" y="40"/>
                      </a:cubicBezTo>
                      <a:cubicBezTo>
                        <a:pt x="208" y="0"/>
                        <a:pt x="320" y="0"/>
                        <a:pt x="384" y="40"/>
                      </a:cubicBezTo>
                      <a:cubicBezTo>
                        <a:pt x="448" y="80"/>
                        <a:pt x="488" y="180"/>
                        <a:pt x="528" y="2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402960" y="3631680"/>
                <a:ext cx="519120" cy="704520"/>
                <a:chOff x="6402960" y="3631680"/>
                <a:chExt cx="519120" cy="704520"/>
              </a:xfrm>
            </p:grpSpPr>
            <p:sp>
              <p:nvSpPr>
                <p:cNvPr id="262" name=""/>
                <p:cNvSpPr/>
                <p:nvPr/>
              </p:nvSpPr>
              <p:spPr>
                <a:xfrm flipV="1">
                  <a:off x="6689520" y="3631680"/>
                  <a:ext cx="0" cy="320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402960" y="387648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5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1371600" y="4276800"/>
            <a:ext cx="6553080" cy="914400"/>
            <a:chOff x="1371600" y="4276800"/>
            <a:chExt cx="6553080" cy="914400"/>
          </a:xfrm>
        </p:grpSpPr>
        <p:sp>
          <p:nvSpPr>
            <p:cNvPr id="265" name=""/>
            <p:cNvSpPr/>
            <p:nvPr/>
          </p:nvSpPr>
          <p:spPr>
            <a:xfrm>
              <a:off x="1371600" y="4276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6 +         = 73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86200" y="442944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886200" y="4276800"/>
            <a:ext cx="1143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592776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373840" y="5124600"/>
            <a:ext cx="4548240" cy="1507320"/>
            <a:chOff x="2373840" y="5124600"/>
            <a:chExt cx="4548240" cy="1507320"/>
          </a:xfrm>
        </p:grpSpPr>
        <p:grpSp>
          <p:nvGrpSpPr>
            <p:cNvPr id="270" name=""/>
            <p:cNvGrpSpPr/>
            <p:nvPr/>
          </p:nvGrpSpPr>
          <p:grpSpPr>
            <a:xfrm>
              <a:off x="2373840" y="5911560"/>
              <a:ext cx="519120" cy="704520"/>
              <a:chOff x="2373840" y="5911560"/>
              <a:chExt cx="519120" cy="70452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2660400" y="591156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73840" y="61563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681280" y="5553000"/>
              <a:ext cx="461880" cy="3906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81360" y="524196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43160" y="5389560"/>
              <a:ext cx="3022560" cy="5540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75160" y="5124600"/>
              <a:ext cx="92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140520" y="5197320"/>
              <a:ext cx="564840" cy="730080"/>
              <a:chOff x="6140520" y="5197320"/>
              <a:chExt cx="564840" cy="730080"/>
            </a:xfrm>
          </p:grpSpPr>
          <p:sp>
            <p:nvSpPr>
              <p:cNvPr id="278" name=""/>
              <p:cNvSpPr/>
              <p:nvPr/>
            </p:nvSpPr>
            <p:spPr>
              <a:xfrm>
                <a:off x="6140520" y="5470200"/>
                <a:ext cx="564840" cy="457200"/>
              </a:xfrm>
              <a:custGeom>
                <a:avLst/>
                <a:gdLst/>
                <a:ahLst/>
                <a:rect l="l" t="t" r="r" b="b"/>
                <a:pathLst>
                  <a:path w="240" h="168">
                    <a:moveTo>
                      <a:pt x="0" y="168"/>
                    </a:moveTo>
                    <a:cubicBezTo>
                      <a:pt x="8" y="108"/>
                      <a:pt x="16" y="48"/>
                      <a:pt x="48" y="24"/>
                    </a:cubicBezTo>
                    <a:cubicBezTo>
                      <a:pt x="80" y="0"/>
                      <a:pt x="160" y="0"/>
                      <a:pt x="192" y="24"/>
                    </a:cubicBezTo>
                    <a:cubicBezTo>
                      <a:pt x="224" y="48"/>
                      <a:pt x="232" y="108"/>
                      <a:pt x="240" y="16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26560" y="5197320"/>
                <a:ext cx="30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067200" y="5927760"/>
              <a:ext cx="339120" cy="621360"/>
              <a:chOff x="3067200" y="5927760"/>
              <a:chExt cx="339120" cy="621360"/>
            </a:xfrm>
          </p:grpSpPr>
          <p:sp>
            <p:nvSpPr>
              <p:cNvPr id="281" name=""/>
              <p:cNvSpPr/>
              <p:nvPr/>
            </p:nvSpPr>
            <p:spPr>
              <a:xfrm>
                <a:off x="3067200" y="618300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64040" y="592776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6027840" y="5927760"/>
              <a:ext cx="339120" cy="621360"/>
              <a:chOff x="6027840" y="5927760"/>
              <a:chExt cx="339120" cy="621360"/>
            </a:xfrm>
          </p:grpSpPr>
          <p:sp>
            <p:nvSpPr>
              <p:cNvPr id="284" name=""/>
              <p:cNvSpPr/>
              <p:nvPr/>
            </p:nvSpPr>
            <p:spPr>
              <a:xfrm>
                <a:off x="6027840" y="618300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24680" y="592776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6402960" y="5927400"/>
              <a:ext cx="519120" cy="704520"/>
              <a:chOff x="6402960" y="5927400"/>
              <a:chExt cx="519120" cy="704520"/>
            </a:xfrm>
          </p:grpSpPr>
          <p:sp>
            <p:nvSpPr>
              <p:cNvPr id="287" name=""/>
              <p:cNvSpPr/>
              <p:nvPr/>
            </p:nvSpPr>
            <p:spPr>
              <a:xfrm flipV="1">
                <a:off x="6689520" y="592740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402960" y="61722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291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8 +         = 62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69800" y="3254400"/>
            <a:ext cx="468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1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2 to get to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40 to get to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2 to get to 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297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9 +         = 93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371600" y="2895480"/>
            <a:ext cx="6553080" cy="914400"/>
            <a:chOff x="1371600" y="2895480"/>
            <a:chExt cx="6553080" cy="914400"/>
          </a:xfrm>
        </p:grpSpPr>
        <p:sp>
          <p:nvSpPr>
            <p:cNvPr id="300" name=""/>
            <p:cNvSpPr/>
            <p:nvPr/>
          </p:nvSpPr>
          <p:spPr>
            <a:xfrm>
              <a:off x="1371600" y="2895480"/>
              <a:ext cx="6553080" cy="9144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7 +         = 52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86200" y="30481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371600" y="3809880"/>
            <a:ext cx="6553080" cy="914400"/>
            <a:chOff x="1371600" y="3809880"/>
            <a:chExt cx="6553080" cy="914400"/>
          </a:xfrm>
        </p:grpSpPr>
        <p:sp>
          <p:nvSpPr>
            <p:cNvPr id="303" name=""/>
            <p:cNvSpPr/>
            <p:nvPr/>
          </p:nvSpPr>
          <p:spPr>
            <a:xfrm>
              <a:off x="1371600" y="3809880"/>
              <a:ext cx="6553080" cy="9144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6 +         = 82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86200" y="39625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371600" y="4724280"/>
            <a:ext cx="6553080" cy="914400"/>
            <a:chOff x="1371600" y="4724280"/>
            <a:chExt cx="6553080" cy="914400"/>
          </a:xfrm>
        </p:grpSpPr>
        <p:sp>
          <p:nvSpPr>
            <p:cNvPr id="306" name=""/>
            <p:cNvSpPr/>
            <p:nvPr/>
          </p:nvSpPr>
          <p:spPr>
            <a:xfrm>
              <a:off x="1371600" y="4724280"/>
              <a:ext cx="6553080" cy="9144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55 +         = 72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86200" y="48769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371600" y="5638680"/>
            <a:ext cx="6553080" cy="914400"/>
            <a:chOff x="1371600" y="5638680"/>
            <a:chExt cx="6553080" cy="914400"/>
          </a:xfrm>
        </p:grpSpPr>
        <p:sp>
          <p:nvSpPr>
            <p:cNvPr id="309" name=""/>
            <p:cNvSpPr/>
            <p:nvPr/>
          </p:nvSpPr>
          <p:spPr>
            <a:xfrm>
              <a:off x="1371600" y="5638680"/>
              <a:ext cx="6553080" cy="9144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7 +         = 64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86200" y="57913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860640" y="2006640"/>
            <a:ext cx="1143000" cy="4495680"/>
            <a:chOff x="3860640" y="2006640"/>
            <a:chExt cx="1143000" cy="4495680"/>
          </a:xfrm>
        </p:grpSpPr>
        <p:sp>
          <p:nvSpPr>
            <p:cNvPr id="312" name=""/>
            <p:cNvSpPr/>
            <p:nvPr/>
          </p:nvSpPr>
          <p:spPr>
            <a:xfrm>
              <a:off x="3860640" y="20066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54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60640" y="29210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60640" y="38354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60640" y="47498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60640" y="56642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7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to from here?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tractio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trategies on number l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o Algebra - solving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rId1" action="ppaction://hlinksldjump"/>
          </p:cNvPr>
          <p:cNvSpPr/>
          <p:nvPr/>
        </p:nvSpPr>
        <p:spPr>
          <a:xfrm>
            <a:off x="1371600" y="20574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rId2" action="ppaction://hlinksldjump"/>
          </p:cNvPr>
          <p:cNvSpPr/>
          <p:nvPr/>
        </p:nvSpPr>
        <p:spPr>
          <a:xfrm>
            <a:off x="685800" y="25146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1523880" y="2438280"/>
            <a:ext cx="4496040" cy="381240"/>
          </a:xfrm>
          <a:custGeom>
            <a:avLst/>
            <a:gdLst>
              <a:gd name="textAreaLeft" fmla="*/ 24480 w 4496040"/>
              <a:gd name="textAreaRight" fmla="*/ 4471560 w 44960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4513" h="21600">
                <a:moveTo>
                  <a:pt x="0" y="0"/>
                </a:moveTo>
                <a:lnTo>
                  <a:pt x="254513" y="0"/>
                </a:lnTo>
                <a:lnTo>
                  <a:pt x="254513" y="21600"/>
                </a:lnTo>
                <a:lnTo>
                  <a:pt x="0" y="21600"/>
                </a:lnTo>
                <a:close/>
              </a:path>
              <a:path fill="lightenLess" w="254513" h="21600">
                <a:moveTo>
                  <a:pt x="0" y="0"/>
                </a:moveTo>
                <a:lnTo>
                  <a:pt x="254513" y="0"/>
                </a:lnTo>
                <a:lnTo>
                  <a:pt x="253113" y="1400"/>
                </a:lnTo>
                <a:lnTo>
                  <a:pt x="1400" y="1400"/>
                </a:lnTo>
                <a:close/>
              </a:path>
              <a:path fill="darken" w="254513" h="21600">
                <a:moveTo>
                  <a:pt x="254513" y="0"/>
                </a:moveTo>
                <a:lnTo>
                  <a:pt x="254513" y="21600"/>
                </a:lnTo>
                <a:lnTo>
                  <a:pt x="253113" y="20200"/>
                </a:lnTo>
                <a:lnTo>
                  <a:pt x="253113" y="1400"/>
                </a:lnTo>
                <a:close/>
              </a:path>
              <a:path fill="darkenLess" w="254513" h="21600">
                <a:moveTo>
                  <a:pt x="25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113" y="20200"/>
                </a:lnTo>
                <a:close/>
              </a:path>
              <a:path fill="lighten" w="25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rId4" action="ppaction://hlinksldjump"/>
          </p:cNvPr>
          <p:cNvSpPr/>
          <p:nvPr/>
        </p:nvSpPr>
        <p:spPr>
          <a:xfrm>
            <a:off x="1523880" y="2819520"/>
            <a:ext cx="4800600" cy="457200"/>
          </a:xfrm>
          <a:custGeom>
            <a:avLst/>
            <a:gdLst>
              <a:gd name="textAreaLeft" fmla="*/ 29520 w 4800600"/>
              <a:gd name="textAreaRight" fmla="*/ 4771080 w 4800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6639" h="21600">
                <a:moveTo>
                  <a:pt x="0" y="0"/>
                </a:moveTo>
                <a:lnTo>
                  <a:pt x="226639" y="0"/>
                </a:lnTo>
                <a:lnTo>
                  <a:pt x="226639" y="21600"/>
                </a:lnTo>
                <a:lnTo>
                  <a:pt x="0" y="21600"/>
                </a:lnTo>
                <a:close/>
              </a:path>
              <a:path fill="lightenLess" w="226639" h="21600">
                <a:moveTo>
                  <a:pt x="0" y="0"/>
                </a:moveTo>
                <a:lnTo>
                  <a:pt x="226639" y="0"/>
                </a:lnTo>
                <a:lnTo>
                  <a:pt x="225239" y="1400"/>
                </a:lnTo>
                <a:lnTo>
                  <a:pt x="1400" y="1400"/>
                </a:lnTo>
                <a:close/>
              </a:path>
              <a:path fill="darken" w="226639" h="21600">
                <a:moveTo>
                  <a:pt x="226639" y="0"/>
                </a:moveTo>
                <a:lnTo>
                  <a:pt x="226639" y="21600"/>
                </a:lnTo>
                <a:lnTo>
                  <a:pt x="225239" y="20200"/>
                </a:lnTo>
                <a:lnTo>
                  <a:pt x="225239" y="1400"/>
                </a:lnTo>
                <a:close/>
              </a:path>
              <a:path fill="darkenLess" w="226639" h="21600">
                <a:moveTo>
                  <a:pt x="226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239" y="20200"/>
                </a:lnTo>
                <a:close/>
              </a:path>
              <a:path fill="lighten" w="226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Materials- subtraction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1 - 4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3732840" y="4022280"/>
            <a:ext cx="519120" cy="1120680"/>
            <a:chOff x="3732840" y="4022280"/>
            <a:chExt cx="519120" cy="1120680"/>
          </a:xfrm>
        </p:grpSpPr>
        <p:sp>
          <p:nvSpPr>
            <p:cNvPr id="328" name=""/>
            <p:cNvSpPr/>
            <p:nvPr/>
          </p:nvSpPr>
          <p:spPr>
            <a:xfrm flipV="1">
              <a:off x="40194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328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936480" y="4022280"/>
            <a:ext cx="519120" cy="1120680"/>
            <a:chOff x="6936480" y="4022280"/>
            <a:chExt cx="519120" cy="1120680"/>
          </a:xfrm>
        </p:grpSpPr>
        <p:sp>
          <p:nvSpPr>
            <p:cNvPr id="331" name=""/>
            <p:cNvSpPr/>
            <p:nvPr/>
          </p:nvSpPr>
          <p:spPr>
            <a:xfrm flipV="1">
              <a:off x="7223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364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019400" y="3772080"/>
            <a:ext cx="381240" cy="2664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00640" y="358776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45200" y="358128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3581280"/>
            <a:ext cx="83844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34320" y="3816360"/>
            <a:ext cx="304560" cy="2160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38480" y="350532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38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802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53400" y="354960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aging - subtraction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593080" y="4022280"/>
            <a:ext cx="519120" cy="1120680"/>
            <a:chOff x="2593080" y="4022280"/>
            <a:chExt cx="519120" cy="1120680"/>
          </a:xfrm>
        </p:grpSpPr>
        <p:sp>
          <p:nvSpPr>
            <p:cNvPr id="346" name=""/>
            <p:cNvSpPr/>
            <p:nvPr/>
          </p:nvSpPr>
          <p:spPr>
            <a:xfrm flipV="1">
              <a:off x="28796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930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314040" y="4022280"/>
            <a:ext cx="519120" cy="1120680"/>
            <a:chOff x="6314040" y="4022280"/>
            <a:chExt cx="519120" cy="1120680"/>
          </a:xfrm>
        </p:grpSpPr>
        <p:sp>
          <p:nvSpPr>
            <p:cNvPr id="349" name=""/>
            <p:cNvSpPr/>
            <p:nvPr/>
          </p:nvSpPr>
          <p:spPr>
            <a:xfrm flipV="1">
              <a:off x="66006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140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870280" y="3352680"/>
            <a:ext cx="272880" cy="685800"/>
            <a:chOff x="2870280" y="3352680"/>
            <a:chExt cx="272880" cy="685800"/>
          </a:xfrm>
        </p:grpSpPr>
        <p:sp>
          <p:nvSpPr>
            <p:cNvPr id="352" name=""/>
            <p:cNvSpPr/>
            <p:nvPr/>
          </p:nvSpPr>
          <p:spPr>
            <a:xfrm>
              <a:off x="2914560" y="365760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7028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149640" y="3232080"/>
            <a:ext cx="1498680" cy="806400"/>
            <a:chOff x="3149640" y="3232080"/>
            <a:chExt cx="1498680" cy="806400"/>
          </a:xfrm>
        </p:grpSpPr>
        <p:sp>
          <p:nvSpPr>
            <p:cNvPr id="355" name=""/>
            <p:cNvSpPr/>
            <p:nvPr/>
          </p:nvSpPr>
          <p:spPr>
            <a:xfrm>
              <a:off x="3149640" y="3505320"/>
              <a:ext cx="149868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95760" y="3232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140520" y="3308400"/>
            <a:ext cx="457200" cy="730080"/>
            <a:chOff x="6140520" y="3308400"/>
            <a:chExt cx="457200" cy="730080"/>
          </a:xfrm>
        </p:grpSpPr>
        <p:sp>
          <p:nvSpPr>
            <p:cNvPr id="358" name=""/>
            <p:cNvSpPr/>
            <p:nvPr/>
          </p:nvSpPr>
          <p:spPr>
            <a:xfrm>
              <a:off x="6140520" y="3581280"/>
              <a:ext cx="457200" cy="4572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10360" y="33084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587600" y="4038480"/>
            <a:ext cx="339120" cy="621720"/>
            <a:chOff x="1587600" y="4038480"/>
            <a:chExt cx="339120" cy="621720"/>
          </a:xfrm>
        </p:grpSpPr>
        <p:sp>
          <p:nvSpPr>
            <p:cNvPr id="361" name=""/>
            <p:cNvSpPr/>
            <p:nvPr/>
          </p:nvSpPr>
          <p:spPr>
            <a:xfrm>
              <a:off x="1587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826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067200" y="4038480"/>
            <a:ext cx="339120" cy="621720"/>
            <a:chOff x="3067200" y="4038480"/>
            <a:chExt cx="339120" cy="621720"/>
          </a:xfrm>
        </p:grpSpPr>
        <p:sp>
          <p:nvSpPr>
            <p:cNvPr id="364" name=""/>
            <p:cNvSpPr/>
            <p:nvPr/>
          </p:nvSpPr>
          <p:spPr>
            <a:xfrm>
              <a:off x="30672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640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548600" y="4038480"/>
            <a:ext cx="339120" cy="621720"/>
            <a:chOff x="4548600" y="4038480"/>
            <a:chExt cx="339120" cy="621720"/>
          </a:xfrm>
        </p:grpSpPr>
        <p:sp>
          <p:nvSpPr>
            <p:cNvPr id="367" name=""/>
            <p:cNvSpPr/>
            <p:nvPr/>
          </p:nvSpPr>
          <p:spPr>
            <a:xfrm>
              <a:off x="4548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43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027840" y="4038480"/>
            <a:ext cx="339120" cy="621720"/>
            <a:chOff x="6027840" y="4038480"/>
            <a:chExt cx="339120" cy="621720"/>
          </a:xfrm>
        </p:grpSpPr>
        <p:sp>
          <p:nvSpPr>
            <p:cNvPr id="370" name=""/>
            <p:cNvSpPr/>
            <p:nvPr/>
          </p:nvSpPr>
          <p:spPr>
            <a:xfrm>
              <a:off x="60278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1246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7509240" y="4038480"/>
            <a:ext cx="339120" cy="621720"/>
            <a:chOff x="7509240" y="4038480"/>
            <a:chExt cx="339120" cy="621720"/>
          </a:xfrm>
        </p:grpSpPr>
        <p:sp>
          <p:nvSpPr>
            <p:cNvPr id="373" name=""/>
            <p:cNvSpPr/>
            <p:nvPr/>
          </p:nvSpPr>
          <p:spPr>
            <a:xfrm>
              <a:off x="75092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04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648320" y="3225960"/>
            <a:ext cx="1498320" cy="812520"/>
            <a:chOff x="4648320" y="3225960"/>
            <a:chExt cx="1498320" cy="812520"/>
          </a:xfrm>
        </p:grpSpPr>
        <p:sp>
          <p:nvSpPr>
            <p:cNvPr id="376" name=""/>
            <p:cNvSpPr/>
            <p:nvPr/>
          </p:nvSpPr>
          <p:spPr>
            <a:xfrm>
              <a:off x="5194440" y="32259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48320" y="3505320"/>
              <a:ext cx="149832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1447920" y="403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4 - 3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aging - subtraction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3 - 26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47920" y="430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373840" y="3505320"/>
            <a:ext cx="4548240" cy="1507320"/>
            <a:chOff x="2373840" y="3505320"/>
            <a:chExt cx="4548240" cy="1507320"/>
          </a:xfrm>
        </p:grpSpPr>
        <p:grpSp>
          <p:nvGrpSpPr>
            <p:cNvPr id="388" name=""/>
            <p:cNvGrpSpPr/>
            <p:nvPr/>
          </p:nvGrpSpPr>
          <p:grpSpPr>
            <a:xfrm>
              <a:off x="2373840" y="4292280"/>
              <a:ext cx="519120" cy="704520"/>
              <a:chOff x="2373840" y="4292280"/>
              <a:chExt cx="519120" cy="704520"/>
            </a:xfrm>
          </p:grpSpPr>
          <p:sp>
            <p:nvSpPr>
              <p:cNvPr id="389" name=""/>
              <p:cNvSpPr/>
              <p:nvPr/>
            </p:nvSpPr>
            <p:spPr>
              <a:xfrm flipV="1">
                <a:off x="2660400" y="429228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373840" y="45370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681280" y="3933720"/>
              <a:ext cx="461880" cy="3906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81360" y="362268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43160" y="3770280"/>
              <a:ext cx="3022560" cy="5540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75160" y="3505320"/>
              <a:ext cx="92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6140520" y="3578040"/>
              <a:ext cx="564840" cy="730080"/>
              <a:chOff x="6140520" y="3578040"/>
              <a:chExt cx="564840" cy="730080"/>
            </a:xfrm>
          </p:grpSpPr>
          <p:sp>
            <p:nvSpPr>
              <p:cNvPr id="396" name=""/>
              <p:cNvSpPr/>
              <p:nvPr/>
            </p:nvSpPr>
            <p:spPr>
              <a:xfrm>
                <a:off x="6140520" y="3850920"/>
                <a:ext cx="564840" cy="457200"/>
              </a:xfrm>
              <a:custGeom>
                <a:avLst/>
                <a:gdLst/>
                <a:ahLst/>
                <a:rect l="l" t="t" r="r" b="b"/>
                <a:pathLst>
                  <a:path w="240" h="168">
                    <a:moveTo>
                      <a:pt x="0" y="168"/>
                    </a:moveTo>
                    <a:cubicBezTo>
                      <a:pt x="8" y="108"/>
                      <a:pt x="16" y="48"/>
                      <a:pt x="48" y="24"/>
                    </a:cubicBezTo>
                    <a:cubicBezTo>
                      <a:pt x="80" y="0"/>
                      <a:pt x="160" y="0"/>
                      <a:pt x="192" y="24"/>
                    </a:cubicBezTo>
                    <a:cubicBezTo>
                      <a:pt x="224" y="48"/>
                      <a:pt x="232" y="108"/>
                      <a:pt x="240" y="16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226560" y="3578040"/>
                <a:ext cx="30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3067200" y="4308480"/>
              <a:ext cx="339120" cy="621360"/>
              <a:chOff x="3067200" y="4308480"/>
              <a:chExt cx="339120" cy="621360"/>
            </a:xfrm>
          </p:grpSpPr>
          <p:sp>
            <p:nvSpPr>
              <p:cNvPr id="399" name=""/>
              <p:cNvSpPr/>
              <p:nvPr/>
            </p:nvSpPr>
            <p:spPr>
              <a:xfrm>
                <a:off x="3067200" y="456372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164040" y="430848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027840" y="4308480"/>
              <a:ext cx="339120" cy="621360"/>
              <a:chOff x="6027840" y="4308480"/>
              <a:chExt cx="339120" cy="621360"/>
            </a:xfrm>
          </p:grpSpPr>
          <p:sp>
            <p:nvSpPr>
              <p:cNvPr id="402" name=""/>
              <p:cNvSpPr/>
              <p:nvPr/>
            </p:nvSpPr>
            <p:spPr>
              <a:xfrm>
                <a:off x="6027840" y="456372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124680" y="430848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402960" y="4308120"/>
              <a:ext cx="519120" cy="704520"/>
              <a:chOff x="6402960" y="4308120"/>
              <a:chExt cx="519120" cy="704520"/>
            </a:xfrm>
          </p:grpSpPr>
          <p:sp>
            <p:nvSpPr>
              <p:cNvPr id="405" name=""/>
              <p:cNvSpPr/>
              <p:nvPr/>
            </p:nvSpPr>
            <p:spPr>
              <a:xfrm flipV="1">
                <a:off x="6689520" y="430812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402960" y="45529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69800" y="3254400"/>
            <a:ext cx="468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1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3 to get to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60 to get to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2 to get to 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2 - 1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trategies &amp;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8839440" cy="55548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1760" y="312408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number line is a versatile tool and im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 can be used to support and explain a variety of strate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 can be used to solve a wide range of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 can prepare students for algeb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strateg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1 - 4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419" name=""/>
          <p:cNvGrpSpPr/>
          <p:nvPr/>
        </p:nvGrpSpPr>
        <p:grpSpPr>
          <a:xfrm>
            <a:off x="3431160" y="4022280"/>
            <a:ext cx="519120" cy="1120680"/>
            <a:chOff x="3431160" y="4022280"/>
            <a:chExt cx="519120" cy="1120680"/>
          </a:xfrm>
        </p:grpSpPr>
        <p:sp>
          <p:nvSpPr>
            <p:cNvPr id="420" name=""/>
            <p:cNvSpPr/>
            <p:nvPr/>
          </p:nvSpPr>
          <p:spPr>
            <a:xfrm flipV="1">
              <a:off x="371772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311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6768000" y="4022280"/>
            <a:ext cx="519120" cy="1120680"/>
            <a:chOff x="6768000" y="4022280"/>
            <a:chExt cx="519120" cy="1120680"/>
          </a:xfrm>
        </p:grpSpPr>
        <p:sp>
          <p:nvSpPr>
            <p:cNvPr id="423" name=""/>
            <p:cNvSpPr/>
            <p:nvPr/>
          </p:nvSpPr>
          <p:spPr>
            <a:xfrm flipV="1">
              <a:off x="70545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6800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016080" y="3348000"/>
            <a:ext cx="533520" cy="662040"/>
            <a:chOff x="3016080" y="3348000"/>
            <a:chExt cx="533520" cy="662040"/>
          </a:xfrm>
        </p:grpSpPr>
        <p:sp>
          <p:nvSpPr>
            <p:cNvPr id="426" name=""/>
            <p:cNvSpPr/>
            <p:nvPr/>
          </p:nvSpPr>
          <p:spPr>
            <a:xfrm>
              <a:off x="3016080" y="3629160"/>
              <a:ext cx="53352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47840" y="3348000"/>
              <a:ext cx="24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4537080" y="3276720"/>
            <a:ext cx="838080" cy="755640"/>
            <a:chOff x="4537080" y="3276720"/>
            <a:chExt cx="838080" cy="755640"/>
          </a:xfrm>
        </p:grpSpPr>
        <p:sp>
          <p:nvSpPr>
            <p:cNvPr id="429" name=""/>
            <p:cNvSpPr/>
            <p:nvPr/>
          </p:nvSpPr>
          <p:spPr>
            <a:xfrm>
              <a:off x="45370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0844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5381640" y="3276720"/>
            <a:ext cx="838080" cy="749160"/>
            <a:chOff x="5381640" y="3276720"/>
            <a:chExt cx="838080" cy="749160"/>
          </a:xfrm>
        </p:grpSpPr>
        <p:sp>
          <p:nvSpPr>
            <p:cNvPr id="432" name=""/>
            <p:cNvSpPr/>
            <p:nvPr/>
          </p:nvSpPr>
          <p:spPr>
            <a:xfrm>
              <a:off x="538164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0988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232680" y="3276720"/>
            <a:ext cx="838080" cy="749160"/>
            <a:chOff x="6232680" y="3276720"/>
            <a:chExt cx="838080" cy="749160"/>
          </a:xfrm>
        </p:grpSpPr>
        <p:sp>
          <p:nvSpPr>
            <p:cNvPr id="435" name=""/>
            <p:cNvSpPr/>
            <p:nvPr/>
          </p:nvSpPr>
          <p:spPr>
            <a:xfrm>
              <a:off x="623268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1700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505320" y="3352680"/>
            <a:ext cx="244440" cy="685800"/>
            <a:chOff x="3505320" y="3352680"/>
            <a:chExt cx="244440" cy="685800"/>
          </a:xfrm>
        </p:grpSpPr>
        <p:sp>
          <p:nvSpPr>
            <p:cNvPr id="438" name=""/>
            <p:cNvSpPr/>
            <p:nvPr/>
          </p:nvSpPr>
          <p:spPr>
            <a:xfrm>
              <a:off x="3559320" y="3657600"/>
              <a:ext cx="174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0532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718080" y="3276720"/>
            <a:ext cx="838080" cy="755640"/>
            <a:chOff x="3718080" y="3276720"/>
            <a:chExt cx="838080" cy="755640"/>
          </a:xfrm>
        </p:grpSpPr>
        <p:sp>
          <p:nvSpPr>
            <p:cNvPr id="442" name=""/>
            <p:cNvSpPr/>
            <p:nvPr/>
          </p:nvSpPr>
          <p:spPr>
            <a:xfrm>
              <a:off x="37180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894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729520" y="4038120"/>
            <a:ext cx="519120" cy="1120680"/>
            <a:chOff x="2729520" y="4038120"/>
            <a:chExt cx="519120" cy="1120680"/>
          </a:xfrm>
        </p:grpSpPr>
        <p:sp>
          <p:nvSpPr>
            <p:cNvPr id="445" name=""/>
            <p:cNvSpPr/>
            <p:nvPr/>
          </p:nvSpPr>
          <p:spPr>
            <a:xfrm flipV="1">
              <a:off x="3016080" y="40381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29520" y="46990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ddition and Subtraction strateg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Strategy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del for a Teaching Progres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ing Im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ards number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ion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ion and addit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Number to Algebra - solving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685800" y="20574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685800" y="25146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838080" y="25146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685800" y="3352680"/>
            <a:ext cx="2743200" cy="381240"/>
          </a:xfrm>
          <a:custGeom>
            <a:avLst/>
            <a:gdLst>
              <a:gd name="textAreaLeft" fmla="*/ 24480 w 2743200"/>
              <a:gd name="textAreaRight" fmla="*/ 2718720 w 2743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55296" h="21600">
                <a:moveTo>
                  <a:pt x="0" y="0"/>
                </a:moveTo>
                <a:lnTo>
                  <a:pt x="155296" y="0"/>
                </a:lnTo>
                <a:lnTo>
                  <a:pt x="155296" y="21600"/>
                </a:lnTo>
                <a:lnTo>
                  <a:pt x="0" y="21600"/>
                </a:lnTo>
                <a:close/>
              </a:path>
              <a:path fill="lightenLess" w="155296" h="21600">
                <a:moveTo>
                  <a:pt x="0" y="0"/>
                </a:moveTo>
                <a:lnTo>
                  <a:pt x="155296" y="0"/>
                </a:lnTo>
                <a:lnTo>
                  <a:pt x="153896" y="1400"/>
                </a:lnTo>
                <a:lnTo>
                  <a:pt x="1400" y="1400"/>
                </a:lnTo>
                <a:close/>
              </a:path>
              <a:path fill="darken" w="155296" h="21600">
                <a:moveTo>
                  <a:pt x="155296" y="0"/>
                </a:moveTo>
                <a:lnTo>
                  <a:pt x="155296" y="21600"/>
                </a:lnTo>
                <a:lnTo>
                  <a:pt x="153896" y="20200"/>
                </a:lnTo>
                <a:lnTo>
                  <a:pt x="153896" y="1400"/>
                </a:lnTo>
                <a:close/>
              </a:path>
              <a:path fill="darkenLess" w="155296" h="21600">
                <a:moveTo>
                  <a:pt x="155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3896" y="20200"/>
                </a:lnTo>
                <a:close/>
              </a:path>
              <a:path fill="lighten" w="155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5" action="ppaction://hlinksldjump"/>
          </p:cNvPr>
          <p:cNvSpPr/>
          <p:nvPr/>
        </p:nvSpPr>
        <p:spPr>
          <a:xfrm>
            <a:off x="762120" y="3809880"/>
            <a:ext cx="4876560" cy="304920"/>
          </a:xfrm>
          <a:custGeom>
            <a:avLst/>
            <a:gdLst>
              <a:gd name="textAreaLeft" fmla="*/ 19440 w 4876560"/>
              <a:gd name="textAreaRight" fmla="*/ 4857120 w 4876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45065" h="21600">
                <a:moveTo>
                  <a:pt x="0" y="0"/>
                </a:moveTo>
                <a:lnTo>
                  <a:pt x="345065" y="0"/>
                </a:lnTo>
                <a:lnTo>
                  <a:pt x="345065" y="21600"/>
                </a:lnTo>
                <a:lnTo>
                  <a:pt x="0" y="21600"/>
                </a:lnTo>
                <a:close/>
              </a:path>
              <a:path fill="lightenLess" w="345065" h="21600">
                <a:moveTo>
                  <a:pt x="0" y="0"/>
                </a:moveTo>
                <a:lnTo>
                  <a:pt x="345065" y="0"/>
                </a:lnTo>
                <a:lnTo>
                  <a:pt x="343665" y="1400"/>
                </a:lnTo>
                <a:lnTo>
                  <a:pt x="1400" y="1400"/>
                </a:lnTo>
                <a:close/>
              </a:path>
              <a:path fill="darken" w="345065" h="21600">
                <a:moveTo>
                  <a:pt x="345065" y="0"/>
                </a:moveTo>
                <a:lnTo>
                  <a:pt x="345065" y="21600"/>
                </a:lnTo>
                <a:lnTo>
                  <a:pt x="343665" y="20200"/>
                </a:lnTo>
                <a:lnTo>
                  <a:pt x="343665" y="1400"/>
                </a:lnTo>
                <a:close/>
              </a:path>
              <a:path fill="darkenLess" w="345065" h="21600">
                <a:moveTo>
                  <a:pt x="3450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65" y="20200"/>
                </a:lnTo>
                <a:close/>
              </a:path>
              <a:path fill="lighten" w="3450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6" action="ppaction://hlinksldjump"/>
          </p:cNvPr>
          <p:cNvSpPr/>
          <p:nvPr/>
        </p:nvSpPr>
        <p:spPr>
          <a:xfrm>
            <a:off x="685800" y="4191120"/>
            <a:ext cx="5334120" cy="380880"/>
          </a:xfrm>
          <a:custGeom>
            <a:avLst/>
            <a:gdLst>
              <a:gd name="textAreaLeft" fmla="*/ 24480 w 5334120"/>
              <a:gd name="textAreaRight" fmla="*/ 5309640 w 5334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37" h="21600">
                <a:moveTo>
                  <a:pt x="0" y="0"/>
                </a:moveTo>
                <a:lnTo>
                  <a:pt x="302237" y="0"/>
                </a:lnTo>
                <a:lnTo>
                  <a:pt x="302237" y="21600"/>
                </a:lnTo>
                <a:lnTo>
                  <a:pt x="0" y="21600"/>
                </a:lnTo>
                <a:close/>
              </a:path>
              <a:path fill="lightenLess" w="302237" h="21600">
                <a:moveTo>
                  <a:pt x="0" y="0"/>
                </a:moveTo>
                <a:lnTo>
                  <a:pt x="302237" y="0"/>
                </a:lnTo>
                <a:lnTo>
                  <a:pt x="300837" y="1400"/>
                </a:lnTo>
                <a:lnTo>
                  <a:pt x="1400" y="1400"/>
                </a:lnTo>
                <a:close/>
              </a:path>
              <a:path fill="darken" w="302237" h="21600">
                <a:moveTo>
                  <a:pt x="302237" y="0"/>
                </a:moveTo>
                <a:lnTo>
                  <a:pt x="302237" y="21600"/>
                </a:lnTo>
                <a:lnTo>
                  <a:pt x="300837" y="20200"/>
                </a:lnTo>
                <a:lnTo>
                  <a:pt x="300837" y="1400"/>
                </a:lnTo>
                <a:close/>
              </a:path>
              <a:path fill="darkenLess" w="302237" h="21600">
                <a:moveTo>
                  <a:pt x="3022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837" y="20200"/>
                </a:lnTo>
                <a:close/>
              </a:path>
              <a:path fill="lighten" w="3022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7" action="ppaction://hlinksldjump"/>
          </p:cNvPr>
          <p:cNvSpPr/>
          <p:nvPr/>
        </p:nvSpPr>
        <p:spPr>
          <a:xfrm>
            <a:off x="762120" y="2895480"/>
            <a:ext cx="3047760" cy="381240"/>
          </a:xfrm>
          <a:custGeom>
            <a:avLst/>
            <a:gdLst>
              <a:gd name="textAreaLeft" fmla="*/ 24480 w 3047760"/>
              <a:gd name="textAreaRight" fmla="*/ 3023280 w 3047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72535" h="21600">
                <a:moveTo>
                  <a:pt x="0" y="0"/>
                </a:moveTo>
                <a:lnTo>
                  <a:pt x="172535" y="0"/>
                </a:lnTo>
                <a:lnTo>
                  <a:pt x="172535" y="21600"/>
                </a:lnTo>
                <a:lnTo>
                  <a:pt x="0" y="21600"/>
                </a:lnTo>
                <a:close/>
              </a:path>
              <a:path fill="lightenLess" w="172535" h="21600">
                <a:moveTo>
                  <a:pt x="0" y="0"/>
                </a:moveTo>
                <a:lnTo>
                  <a:pt x="172535" y="0"/>
                </a:lnTo>
                <a:lnTo>
                  <a:pt x="171135" y="1400"/>
                </a:lnTo>
                <a:lnTo>
                  <a:pt x="1400" y="1400"/>
                </a:lnTo>
                <a:close/>
              </a:path>
              <a:path fill="darken" w="172535" h="21600">
                <a:moveTo>
                  <a:pt x="172535" y="0"/>
                </a:moveTo>
                <a:lnTo>
                  <a:pt x="172535" y="21600"/>
                </a:lnTo>
                <a:lnTo>
                  <a:pt x="171135" y="20200"/>
                </a:lnTo>
                <a:lnTo>
                  <a:pt x="171135" y="1400"/>
                </a:lnTo>
                <a:close/>
              </a:path>
              <a:path fill="darkenLess" w="172535" h="21600">
                <a:moveTo>
                  <a:pt x="17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135" y="20200"/>
                </a:lnTo>
                <a:close/>
              </a:path>
              <a:path fill="lighten" w="17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8" action="ppaction://hlinksldjump"/>
          </p:cNvPr>
          <p:cNvSpPr/>
          <p:nvPr/>
        </p:nvSpPr>
        <p:spPr>
          <a:xfrm>
            <a:off x="685800" y="4648320"/>
            <a:ext cx="5105520" cy="380880"/>
          </a:xfrm>
          <a:custGeom>
            <a:avLst/>
            <a:gdLst>
              <a:gd name="textAreaLeft" fmla="*/ 24480 w 5105520"/>
              <a:gd name="textAreaRight" fmla="*/ 5081040 w 5105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89285" h="21600">
                <a:moveTo>
                  <a:pt x="0" y="0"/>
                </a:moveTo>
                <a:lnTo>
                  <a:pt x="289285" y="0"/>
                </a:lnTo>
                <a:lnTo>
                  <a:pt x="289285" y="21600"/>
                </a:lnTo>
                <a:lnTo>
                  <a:pt x="0" y="21600"/>
                </a:lnTo>
                <a:close/>
              </a:path>
              <a:path fill="lightenLess" w="289285" h="21600">
                <a:moveTo>
                  <a:pt x="0" y="0"/>
                </a:moveTo>
                <a:lnTo>
                  <a:pt x="289285" y="0"/>
                </a:lnTo>
                <a:lnTo>
                  <a:pt x="287885" y="1400"/>
                </a:lnTo>
                <a:lnTo>
                  <a:pt x="1400" y="1400"/>
                </a:lnTo>
                <a:close/>
              </a:path>
              <a:path fill="darken" w="289285" h="21600">
                <a:moveTo>
                  <a:pt x="289285" y="0"/>
                </a:moveTo>
                <a:lnTo>
                  <a:pt x="289285" y="21600"/>
                </a:lnTo>
                <a:lnTo>
                  <a:pt x="287885" y="20200"/>
                </a:lnTo>
                <a:lnTo>
                  <a:pt x="287885" y="1400"/>
                </a:lnTo>
                <a:close/>
              </a:path>
              <a:path fill="darkenLess" w="289285" h="21600">
                <a:moveTo>
                  <a:pt x="289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85" y="20200"/>
                </a:lnTo>
                <a:close/>
              </a:path>
              <a:path fill="lighten" w="289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9" action="ppaction://hlinksldjump"/>
          </p:cNvPr>
          <p:cNvSpPr/>
          <p:nvPr/>
        </p:nvSpPr>
        <p:spPr>
          <a:xfrm>
            <a:off x="685800" y="5105520"/>
            <a:ext cx="2057400" cy="380880"/>
          </a:xfrm>
          <a:custGeom>
            <a:avLst/>
            <a:gdLst>
              <a:gd name="textAreaLeft" fmla="*/ 24480 w 2057400"/>
              <a:gd name="textAreaRight" fmla="*/ 2032920 w 2057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6587" h="21600">
                <a:moveTo>
                  <a:pt x="0" y="0"/>
                </a:moveTo>
                <a:lnTo>
                  <a:pt x="116587" y="0"/>
                </a:lnTo>
                <a:lnTo>
                  <a:pt x="116587" y="21600"/>
                </a:lnTo>
                <a:lnTo>
                  <a:pt x="0" y="21600"/>
                </a:lnTo>
                <a:close/>
              </a:path>
              <a:path fill="lightenLess" w="116587" h="21600">
                <a:moveTo>
                  <a:pt x="0" y="0"/>
                </a:moveTo>
                <a:lnTo>
                  <a:pt x="116587" y="0"/>
                </a:lnTo>
                <a:lnTo>
                  <a:pt x="115187" y="1400"/>
                </a:lnTo>
                <a:lnTo>
                  <a:pt x="1400" y="1400"/>
                </a:lnTo>
                <a:close/>
              </a:path>
              <a:path fill="darken" w="116587" h="21600">
                <a:moveTo>
                  <a:pt x="116587" y="0"/>
                </a:moveTo>
                <a:lnTo>
                  <a:pt x="116587" y="21600"/>
                </a:lnTo>
                <a:lnTo>
                  <a:pt x="115187" y="20200"/>
                </a:lnTo>
                <a:lnTo>
                  <a:pt x="115187" y="1400"/>
                </a:lnTo>
                <a:close/>
              </a:path>
              <a:path fill="darkenLess" w="116587" h="21600">
                <a:moveTo>
                  <a:pt x="116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87" y="20200"/>
                </a:lnTo>
                <a:close/>
              </a:path>
              <a:path fill="lighten" w="116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strateg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1 - 47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451" name=""/>
          <p:cNvGrpSpPr/>
          <p:nvPr/>
        </p:nvGrpSpPr>
        <p:grpSpPr>
          <a:xfrm>
            <a:off x="2602440" y="4022280"/>
            <a:ext cx="519120" cy="1120680"/>
            <a:chOff x="2602440" y="4022280"/>
            <a:chExt cx="519120" cy="1120680"/>
          </a:xfrm>
        </p:grpSpPr>
        <p:sp>
          <p:nvSpPr>
            <p:cNvPr id="452" name=""/>
            <p:cNvSpPr/>
            <p:nvPr/>
          </p:nvSpPr>
          <p:spPr>
            <a:xfrm flipV="1">
              <a:off x="28893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24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768000" y="4022280"/>
            <a:ext cx="519120" cy="1120680"/>
            <a:chOff x="6768000" y="4022280"/>
            <a:chExt cx="519120" cy="1120680"/>
          </a:xfrm>
        </p:grpSpPr>
        <p:sp>
          <p:nvSpPr>
            <p:cNvPr id="455" name=""/>
            <p:cNvSpPr/>
            <p:nvPr/>
          </p:nvSpPr>
          <p:spPr>
            <a:xfrm flipV="1">
              <a:off x="70545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800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895120" y="4044960"/>
            <a:ext cx="304920" cy="604080"/>
            <a:chOff x="2895120" y="4044960"/>
            <a:chExt cx="304920" cy="604080"/>
          </a:xfrm>
        </p:grpSpPr>
        <p:sp>
          <p:nvSpPr>
            <p:cNvPr id="458" name=""/>
            <p:cNvSpPr/>
            <p:nvPr/>
          </p:nvSpPr>
          <p:spPr>
            <a:xfrm flipH="1" flipV="1">
              <a:off x="2894760" y="4044960"/>
              <a:ext cx="304920" cy="33336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33640" y="431172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537080" y="3276720"/>
            <a:ext cx="838080" cy="755640"/>
            <a:chOff x="4537080" y="3276720"/>
            <a:chExt cx="838080" cy="755640"/>
          </a:xfrm>
        </p:grpSpPr>
        <p:sp>
          <p:nvSpPr>
            <p:cNvPr id="461" name=""/>
            <p:cNvSpPr/>
            <p:nvPr/>
          </p:nvSpPr>
          <p:spPr>
            <a:xfrm>
              <a:off x="45370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0844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381640" y="3276720"/>
            <a:ext cx="838080" cy="749160"/>
            <a:chOff x="5381640" y="3276720"/>
            <a:chExt cx="838080" cy="749160"/>
          </a:xfrm>
        </p:grpSpPr>
        <p:sp>
          <p:nvSpPr>
            <p:cNvPr id="464" name=""/>
            <p:cNvSpPr/>
            <p:nvPr/>
          </p:nvSpPr>
          <p:spPr>
            <a:xfrm>
              <a:off x="538164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0988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6232680" y="3276720"/>
            <a:ext cx="838080" cy="749160"/>
            <a:chOff x="6232680" y="3276720"/>
            <a:chExt cx="838080" cy="749160"/>
          </a:xfrm>
        </p:grpSpPr>
        <p:sp>
          <p:nvSpPr>
            <p:cNvPr id="467" name=""/>
            <p:cNvSpPr/>
            <p:nvPr/>
          </p:nvSpPr>
          <p:spPr>
            <a:xfrm>
              <a:off x="623268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1700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3718080" y="3276720"/>
            <a:ext cx="838080" cy="755640"/>
            <a:chOff x="3718080" y="3276720"/>
            <a:chExt cx="838080" cy="755640"/>
          </a:xfrm>
        </p:grpSpPr>
        <p:sp>
          <p:nvSpPr>
            <p:cNvPr id="471" name=""/>
            <p:cNvSpPr/>
            <p:nvPr/>
          </p:nvSpPr>
          <p:spPr>
            <a:xfrm>
              <a:off x="37180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894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200040" y="4038480"/>
            <a:ext cx="674280" cy="1374120"/>
            <a:chOff x="3200040" y="4038480"/>
            <a:chExt cx="674280" cy="1374120"/>
          </a:xfrm>
        </p:grpSpPr>
        <p:sp>
          <p:nvSpPr>
            <p:cNvPr id="474" name=""/>
            <p:cNvSpPr/>
            <p:nvPr/>
          </p:nvSpPr>
          <p:spPr>
            <a:xfrm flipH="1" flipV="1">
              <a:off x="3200040" y="40384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355200" y="4952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2895480" y="3276720"/>
            <a:ext cx="838080" cy="755640"/>
            <a:chOff x="2895480" y="3276720"/>
            <a:chExt cx="838080" cy="755640"/>
          </a:xfrm>
        </p:grpSpPr>
        <p:sp>
          <p:nvSpPr>
            <p:cNvPr id="477" name=""/>
            <p:cNvSpPr/>
            <p:nvPr/>
          </p:nvSpPr>
          <p:spPr>
            <a:xfrm>
              <a:off x="28954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668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92 -       =  6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957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483" name=""/>
          <p:cNvGrpSpPr/>
          <p:nvPr/>
        </p:nvGrpSpPr>
        <p:grpSpPr>
          <a:xfrm>
            <a:off x="2145240" y="4022280"/>
            <a:ext cx="519120" cy="1120680"/>
            <a:chOff x="2145240" y="4022280"/>
            <a:chExt cx="519120" cy="1120680"/>
          </a:xfrm>
        </p:grpSpPr>
        <p:sp>
          <p:nvSpPr>
            <p:cNvPr id="484" name=""/>
            <p:cNvSpPr/>
            <p:nvPr/>
          </p:nvSpPr>
          <p:spPr>
            <a:xfrm flipV="1">
              <a:off x="24321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452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7641360" y="4022280"/>
            <a:ext cx="519120" cy="1120680"/>
            <a:chOff x="7641360" y="4022280"/>
            <a:chExt cx="519120" cy="1120680"/>
          </a:xfrm>
        </p:grpSpPr>
        <p:sp>
          <p:nvSpPr>
            <p:cNvPr id="487" name=""/>
            <p:cNvSpPr/>
            <p:nvPr/>
          </p:nvSpPr>
          <p:spPr>
            <a:xfrm flipV="1">
              <a:off x="792792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413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248520" y="3276720"/>
            <a:ext cx="838080" cy="749160"/>
            <a:chOff x="6248520" y="3276720"/>
            <a:chExt cx="838080" cy="749160"/>
          </a:xfrm>
        </p:grpSpPr>
        <p:sp>
          <p:nvSpPr>
            <p:cNvPr id="490" name=""/>
            <p:cNvSpPr/>
            <p:nvPr/>
          </p:nvSpPr>
          <p:spPr>
            <a:xfrm>
              <a:off x="624852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7676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7086600" y="3276720"/>
            <a:ext cx="838080" cy="749160"/>
            <a:chOff x="7086600" y="3276720"/>
            <a:chExt cx="838080" cy="749160"/>
          </a:xfrm>
        </p:grpSpPr>
        <p:sp>
          <p:nvSpPr>
            <p:cNvPr id="493" name=""/>
            <p:cNvSpPr/>
            <p:nvPr/>
          </p:nvSpPr>
          <p:spPr>
            <a:xfrm>
              <a:off x="708660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7092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6576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438280" y="3276720"/>
            <a:ext cx="457200" cy="761400"/>
            <a:chOff x="2438280" y="3276720"/>
            <a:chExt cx="457200" cy="761400"/>
          </a:xfrm>
        </p:grpSpPr>
        <p:sp>
          <p:nvSpPr>
            <p:cNvPr id="497" name=""/>
            <p:cNvSpPr/>
            <p:nvPr/>
          </p:nvSpPr>
          <p:spPr>
            <a:xfrm>
              <a:off x="2438280" y="3600000"/>
              <a:ext cx="457200" cy="43812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50960" y="3276720"/>
              <a:ext cx="2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410080" y="3276720"/>
            <a:ext cx="838440" cy="749160"/>
            <a:chOff x="5410080" y="3276720"/>
            <a:chExt cx="838440" cy="749160"/>
          </a:xfrm>
        </p:grpSpPr>
        <p:sp>
          <p:nvSpPr>
            <p:cNvPr id="500" name=""/>
            <p:cNvSpPr/>
            <p:nvPr/>
          </p:nvSpPr>
          <p:spPr>
            <a:xfrm>
              <a:off x="5410080" y="358128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386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4572000" y="3276720"/>
            <a:ext cx="838080" cy="749160"/>
            <a:chOff x="4572000" y="3276720"/>
            <a:chExt cx="838080" cy="749160"/>
          </a:xfrm>
        </p:grpSpPr>
        <p:sp>
          <p:nvSpPr>
            <p:cNvPr id="503" name=""/>
            <p:cNvSpPr/>
            <p:nvPr/>
          </p:nvSpPr>
          <p:spPr>
            <a:xfrm>
              <a:off x="457200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0024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733920" y="3276720"/>
            <a:ext cx="838080" cy="749160"/>
            <a:chOff x="3733920" y="3276720"/>
            <a:chExt cx="838080" cy="749160"/>
          </a:xfrm>
        </p:grpSpPr>
        <p:sp>
          <p:nvSpPr>
            <p:cNvPr id="506" name=""/>
            <p:cNvSpPr/>
            <p:nvPr/>
          </p:nvSpPr>
          <p:spPr>
            <a:xfrm>
              <a:off x="373392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6216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2895480" y="3276720"/>
            <a:ext cx="838440" cy="749160"/>
            <a:chOff x="2895480" y="3276720"/>
            <a:chExt cx="838440" cy="749160"/>
          </a:xfrm>
        </p:grpSpPr>
        <p:sp>
          <p:nvSpPr>
            <p:cNvPr id="509" name=""/>
            <p:cNvSpPr/>
            <p:nvPr/>
          </p:nvSpPr>
          <p:spPr>
            <a:xfrm>
              <a:off x="2895480" y="358128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240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1371600" y="5257800"/>
            <a:ext cx="6553080" cy="914400"/>
            <a:chOff x="1371600" y="5257800"/>
            <a:chExt cx="6553080" cy="914400"/>
          </a:xfrm>
        </p:grpSpPr>
        <p:sp>
          <p:nvSpPr>
            <p:cNvPr id="512" name=""/>
            <p:cNvSpPr/>
            <p:nvPr/>
          </p:nvSpPr>
          <p:spPr>
            <a:xfrm>
              <a:off x="1371600" y="5257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92 - 65 =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3412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92 -       =  6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957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518" name=""/>
          <p:cNvGrpSpPr/>
          <p:nvPr/>
        </p:nvGrpSpPr>
        <p:grpSpPr>
          <a:xfrm>
            <a:off x="5345640" y="4022280"/>
            <a:ext cx="519120" cy="1120680"/>
            <a:chOff x="5345640" y="4022280"/>
            <a:chExt cx="519120" cy="1120680"/>
          </a:xfrm>
        </p:grpSpPr>
        <p:sp>
          <p:nvSpPr>
            <p:cNvPr id="519" name=""/>
            <p:cNvSpPr/>
            <p:nvPr/>
          </p:nvSpPr>
          <p:spPr>
            <a:xfrm flipV="1">
              <a:off x="56325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56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7641360" y="4022280"/>
            <a:ext cx="519120" cy="1120680"/>
            <a:chOff x="7641360" y="4022280"/>
            <a:chExt cx="519120" cy="1120680"/>
          </a:xfrm>
        </p:grpSpPr>
        <p:sp>
          <p:nvSpPr>
            <p:cNvPr id="522" name=""/>
            <p:cNvSpPr/>
            <p:nvPr/>
          </p:nvSpPr>
          <p:spPr>
            <a:xfrm flipV="1">
              <a:off x="792792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413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6095880" y="3276720"/>
            <a:ext cx="838440" cy="749160"/>
            <a:chOff x="6095880" y="3276720"/>
            <a:chExt cx="838440" cy="749160"/>
          </a:xfrm>
        </p:grpSpPr>
        <p:sp>
          <p:nvSpPr>
            <p:cNvPr id="525" name=""/>
            <p:cNvSpPr/>
            <p:nvPr/>
          </p:nvSpPr>
          <p:spPr>
            <a:xfrm>
              <a:off x="6095880" y="358128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3244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934320" y="3276720"/>
            <a:ext cx="838080" cy="749160"/>
            <a:chOff x="6934320" y="3276720"/>
            <a:chExt cx="838080" cy="749160"/>
          </a:xfrm>
        </p:grpSpPr>
        <p:sp>
          <p:nvSpPr>
            <p:cNvPr id="528" name=""/>
            <p:cNvSpPr/>
            <p:nvPr/>
          </p:nvSpPr>
          <p:spPr>
            <a:xfrm>
              <a:off x="693432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1186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36576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5638680" y="3276720"/>
            <a:ext cx="457200" cy="761400"/>
            <a:chOff x="5638680" y="3276720"/>
            <a:chExt cx="457200" cy="761400"/>
          </a:xfrm>
        </p:grpSpPr>
        <p:sp>
          <p:nvSpPr>
            <p:cNvPr id="532" name=""/>
            <p:cNvSpPr/>
            <p:nvPr/>
          </p:nvSpPr>
          <p:spPr>
            <a:xfrm>
              <a:off x="5638680" y="3600000"/>
              <a:ext cx="457200" cy="43812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51360" y="3276720"/>
              <a:ext cx="2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7709040" y="3352680"/>
            <a:ext cx="244440" cy="685800"/>
            <a:chOff x="7709040" y="3352680"/>
            <a:chExt cx="244440" cy="685800"/>
          </a:xfrm>
        </p:grpSpPr>
        <p:sp>
          <p:nvSpPr>
            <p:cNvPr id="535" name=""/>
            <p:cNvSpPr/>
            <p:nvPr/>
          </p:nvSpPr>
          <p:spPr>
            <a:xfrm>
              <a:off x="7763040" y="3657600"/>
              <a:ext cx="174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0904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1295280" y="5257800"/>
            <a:ext cx="6553440" cy="914400"/>
            <a:chOff x="1295280" y="5257800"/>
            <a:chExt cx="6553440" cy="914400"/>
          </a:xfrm>
        </p:grpSpPr>
        <p:sp>
          <p:nvSpPr>
            <p:cNvPr id="538" name=""/>
            <p:cNvSpPr/>
            <p:nvPr/>
          </p:nvSpPr>
          <p:spPr>
            <a:xfrm>
              <a:off x="1295280" y="5257800"/>
              <a:ext cx="655344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	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65+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	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=  92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9900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-  18 =  4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3241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544" name=""/>
          <p:cNvGrpSpPr/>
          <p:nvPr/>
        </p:nvGrpSpPr>
        <p:grpSpPr>
          <a:xfrm>
            <a:off x="3593160" y="4022280"/>
            <a:ext cx="519120" cy="1120680"/>
            <a:chOff x="3593160" y="4022280"/>
            <a:chExt cx="519120" cy="1120680"/>
          </a:xfrm>
        </p:grpSpPr>
        <p:sp>
          <p:nvSpPr>
            <p:cNvPr id="545" name=""/>
            <p:cNvSpPr/>
            <p:nvPr/>
          </p:nvSpPr>
          <p:spPr>
            <a:xfrm flipV="1">
              <a:off x="388008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931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32880" y="4022280"/>
            <a:ext cx="519120" cy="1120680"/>
            <a:chOff x="5132880" y="4022280"/>
            <a:chExt cx="519120" cy="1120680"/>
          </a:xfrm>
        </p:grpSpPr>
        <p:sp>
          <p:nvSpPr>
            <p:cNvPr id="548" name=""/>
            <p:cNvSpPr/>
            <p:nvPr/>
          </p:nvSpPr>
          <p:spPr>
            <a:xfrm flipV="1">
              <a:off x="54194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328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4724280" y="3327480"/>
            <a:ext cx="685800" cy="685440"/>
            <a:chOff x="4724280" y="3327480"/>
            <a:chExt cx="685800" cy="685440"/>
          </a:xfrm>
        </p:grpSpPr>
        <p:sp>
          <p:nvSpPr>
            <p:cNvPr id="551" name=""/>
            <p:cNvSpPr/>
            <p:nvPr/>
          </p:nvSpPr>
          <p:spPr>
            <a:xfrm>
              <a:off x="4724280" y="3606120"/>
              <a:ext cx="685800" cy="4068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11120" y="332748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22860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886200" y="3276720"/>
            <a:ext cx="838080" cy="755640"/>
            <a:chOff x="3886200" y="3276720"/>
            <a:chExt cx="838080" cy="755640"/>
          </a:xfrm>
        </p:grpSpPr>
        <p:sp>
          <p:nvSpPr>
            <p:cNvPr id="555" name=""/>
            <p:cNvSpPr/>
            <p:nvPr/>
          </p:nvSpPr>
          <p:spPr>
            <a:xfrm>
              <a:off x="388620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5756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1371600" y="5257800"/>
            <a:ext cx="6553080" cy="914400"/>
            <a:chOff x="1371600" y="5257800"/>
            <a:chExt cx="6553080" cy="914400"/>
          </a:xfrm>
        </p:grpSpPr>
        <p:sp>
          <p:nvSpPr>
            <p:cNvPr id="558" name=""/>
            <p:cNvSpPr/>
            <p:nvPr/>
          </p:nvSpPr>
          <p:spPr>
            <a:xfrm>
              <a:off x="1371600" y="5257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  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=  43 + 18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2416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000" y="525780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6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subtrac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-  18 =  4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3241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565" name=""/>
          <p:cNvGrpSpPr/>
          <p:nvPr/>
        </p:nvGrpSpPr>
        <p:grpSpPr>
          <a:xfrm>
            <a:off x="1373760" y="4022280"/>
            <a:ext cx="519120" cy="1120680"/>
            <a:chOff x="1373760" y="4022280"/>
            <a:chExt cx="519120" cy="1120680"/>
          </a:xfrm>
        </p:grpSpPr>
        <p:sp>
          <p:nvSpPr>
            <p:cNvPr id="566" name=""/>
            <p:cNvSpPr/>
            <p:nvPr/>
          </p:nvSpPr>
          <p:spPr>
            <a:xfrm flipV="1">
              <a:off x="166068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737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5132880" y="4022280"/>
            <a:ext cx="519120" cy="1120680"/>
            <a:chOff x="5132880" y="4022280"/>
            <a:chExt cx="519120" cy="1120680"/>
          </a:xfrm>
        </p:grpSpPr>
        <p:sp>
          <p:nvSpPr>
            <p:cNvPr id="569" name=""/>
            <p:cNvSpPr/>
            <p:nvPr/>
          </p:nvSpPr>
          <p:spPr>
            <a:xfrm flipV="1">
              <a:off x="54194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328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5029200" y="3416400"/>
            <a:ext cx="417600" cy="615960"/>
            <a:chOff x="5029200" y="3416400"/>
            <a:chExt cx="417600" cy="615960"/>
          </a:xfrm>
        </p:grpSpPr>
        <p:sp>
          <p:nvSpPr>
            <p:cNvPr id="572" name=""/>
            <p:cNvSpPr/>
            <p:nvPr/>
          </p:nvSpPr>
          <p:spPr>
            <a:xfrm>
              <a:off x="5029200" y="3676680"/>
              <a:ext cx="380880" cy="35568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73480" y="3416400"/>
              <a:ext cx="3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22860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1676520" y="3276720"/>
            <a:ext cx="838080" cy="755640"/>
            <a:chOff x="1676520" y="3276720"/>
            <a:chExt cx="838080" cy="755640"/>
          </a:xfrm>
        </p:grpSpPr>
        <p:sp>
          <p:nvSpPr>
            <p:cNvPr id="576" name=""/>
            <p:cNvSpPr/>
            <p:nvPr/>
          </p:nvSpPr>
          <p:spPr>
            <a:xfrm>
              <a:off x="167652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8478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1371600" y="5257800"/>
            <a:ext cx="6553080" cy="914400"/>
            <a:chOff x="1371600" y="5257800"/>
            <a:chExt cx="6553080" cy="914400"/>
          </a:xfrm>
        </p:grpSpPr>
        <p:sp>
          <p:nvSpPr>
            <p:cNvPr id="579" name=""/>
            <p:cNvSpPr/>
            <p:nvPr/>
          </p:nvSpPr>
          <p:spPr>
            <a:xfrm>
              <a:off x="1371600" y="5257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8 + 43  =  6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1008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2514600" y="3276720"/>
            <a:ext cx="838080" cy="755640"/>
            <a:chOff x="2514600" y="3276720"/>
            <a:chExt cx="838080" cy="755640"/>
          </a:xfrm>
        </p:grpSpPr>
        <p:sp>
          <p:nvSpPr>
            <p:cNvPr id="582" name=""/>
            <p:cNvSpPr/>
            <p:nvPr/>
          </p:nvSpPr>
          <p:spPr>
            <a:xfrm>
              <a:off x="251460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8596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3352680" y="3276720"/>
            <a:ext cx="838080" cy="755640"/>
            <a:chOff x="3352680" y="3276720"/>
            <a:chExt cx="838080" cy="755640"/>
          </a:xfrm>
        </p:grpSpPr>
        <p:sp>
          <p:nvSpPr>
            <p:cNvPr id="585" name=""/>
            <p:cNvSpPr/>
            <p:nvPr/>
          </p:nvSpPr>
          <p:spPr>
            <a:xfrm>
              <a:off x="33526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240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4191120" y="3276720"/>
            <a:ext cx="838080" cy="755640"/>
            <a:chOff x="4191120" y="3276720"/>
            <a:chExt cx="838080" cy="755640"/>
          </a:xfrm>
        </p:grpSpPr>
        <p:sp>
          <p:nvSpPr>
            <p:cNvPr id="588" name=""/>
            <p:cNvSpPr/>
            <p:nvPr/>
          </p:nvSpPr>
          <p:spPr>
            <a:xfrm>
              <a:off x="419112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3624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addi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+ 27 =  7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3241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594" name=""/>
          <p:cNvGrpSpPr/>
          <p:nvPr/>
        </p:nvGrpSpPr>
        <p:grpSpPr>
          <a:xfrm>
            <a:off x="2135880" y="4022280"/>
            <a:ext cx="519120" cy="1120680"/>
            <a:chOff x="2135880" y="4022280"/>
            <a:chExt cx="519120" cy="1120680"/>
          </a:xfrm>
        </p:grpSpPr>
        <p:sp>
          <p:nvSpPr>
            <p:cNvPr id="595" name=""/>
            <p:cNvSpPr/>
            <p:nvPr/>
          </p:nvSpPr>
          <p:spPr>
            <a:xfrm flipV="1">
              <a:off x="24228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358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963400" y="4022280"/>
            <a:ext cx="519120" cy="1120680"/>
            <a:chOff x="5963400" y="4022280"/>
            <a:chExt cx="519120" cy="1120680"/>
          </a:xfrm>
        </p:grpSpPr>
        <p:sp>
          <p:nvSpPr>
            <p:cNvPr id="598" name=""/>
            <p:cNvSpPr/>
            <p:nvPr/>
          </p:nvSpPr>
          <p:spPr>
            <a:xfrm flipV="1">
              <a:off x="624996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6340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044960" y="3276720"/>
            <a:ext cx="838080" cy="755640"/>
            <a:chOff x="4044960" y="3276720"/>
            <a:chExt cx="838080" cy="755640"/>
          </a:xfrm>
        </p:grpSpPr>
        <p:sp>
          <p:nvSpPr>
            <p:cNvPr id="601" name=""/>
            <p:cNvSpPr/>
            <p:nvPr/>
          </p:nvSpPr>
          <p:spPr>
            <a:xfrm>
              <a:off x="404496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1632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4889520" y="3276720"/>
            <a:ext cx="838080" cy="749160"/>
            <a:chOff x="4889520" y="3276720"/>
            <a:chExt cx="838080" cy="749160"/>
          </a:xfrm>
        </p:grpSpPr>
        <p:sp>
          <p:nvSpPr>
            <p:cNvPr id="604" name=""/>
            <p:cNvSpPr/>
            <p:nvPr/>
          </p:nvSpPr>
          <p:spPr>
            <a:xfrm>
              <a:off x="488952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1776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22860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15000" y="3276720"/>
            <a:ext cx="533520" cy="761040"/>
            <a:chOff x="5715000" y="3276720"/>
            <a:chExt cx="533520" cy="761040"/>
          </a:xfrm>
        </p:grpSpPr>
        <p:sp>
          <p:nvSpPr>
            <p:cNvPr id="608" name=""/>
            <p:cNvSpPr/>
            <p:nvPr/>
          </p:nvSpPr>
          <p:spPr>
            <a:xfrm>
              <a:off x="5715000" y="3589920"/>
              <a:ext cx="533520" cy="4478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825160" y="3276720"/>
              <a:ext cx="28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3241800" y="3276720"/>
            <a:ext cx="838080" cy="755640"/>
            <a:chOff x="3241800" y="3276720"/>
            <a:chExt cx="838080" cy="755640"/>
          </a:xfrm>
        </p:grpSpPr>
        <p:sp>
          <p:nvSpPr>
            <p:cNvPr id="611" name=""/>
            <p:cNvSpPr/>
            <p:nvPr/>
          </p:nvSpPr>
          <p:spPr>
            <a:xfrm>
              <a:off x="324180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41316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2438280" y="3276720"/>
            <a:ext cx="838440" cy="755640"/>
            <a:chOff x="2438280" y="3276720"/>
            <a:chExt cx="838440" cy="755640"/>
          </a:xfrm>
        </p:grpSpPr>
        <p:sp>
          <p:nvSpPr>
            <p:cNvPr id="614" name=""/>
            <p:cNvSpPr/>
            <p:nvPr/>
          </p:nvSpPr>
          <p:spPr>
            <a:xfrm>
              <a:off x="2438280" y="358776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61000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371600" y="5257800"/>
            <a:ext cx="6553080" cy="914400"/>
            <a:chOff x="1371600" y="5257800"/>
            <a:chExt cx="6553080" cy="914400"/>
          </a:xfrm>
        </p:grpSpPr>
        <p:sp>
          <p:nvSpPr>
            <p:cNvPr id="617" name=""/>
            <p:cNvSpPr/>
            <p:nvPr/>
          </p:nvSpPr>
          <p:spPr>
            <a:xfrm>
              <a:off x="1371600" y="5257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+ 27 = 27 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90512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7712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addi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+ 27 =  7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32416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624" name=""/>
          <p:cNvGrpSpPr/>
          <p:nvPr/>
        </p:nvGrpSpPr>
        <p:grpSpPr>
          <a:xfrm>
            <a:off x="3669120" y="4022280"/>
            <a:ext cx="519120" cy="1120680"/>
            <a:chOff x="3669120" y="4022280"/>
            <a:chExt cx="519120" cy="1120680"/>
          </a:xfrm>
        </p:grpSpPr>
        <p:sp>
          <p:nvSpPr>
            <p:cNvPr id="625" name=""/>
            <p:cNvSpPr/>
            <p:nvPr/>
          </p:nvSpPr>
          <p:spPr>
            <a:xfrm flipV="1">
              <a:off x="3956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66912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945760" y="4022280"/>
            <a:ext cx="519120" cy="1120680"/>
            <a:chOff x="5945760" y="4022280"/>
            <a:chExt cx="519120" cy="1120680"/>
          </a:xfrm>
        </p:grpSpPr>
        <p:sp>
          <p:nvSpPr>
            <p:cNvPr id="628" name=""/>
            <p:cNvSpPr/>
            <p:nvPr/>
          </p:nvSpPr>
          <p:spPr>
            <a:xfrm flipV="1">
              <a:off x="623232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4576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537080" y="3276720"/>
            <a:ext cx="838080" cy="755640"/>
            <a:chOff x="4537080" y="3276720"/>
            <a:chExt cx="838080" cy="755640"/>
          </a:xfrm>
        </p:grpSpPr>
        <p:sp>
          <p:nvSpPr>
            <p:cNvPr id="631" name=""/>
            <p:cNvSpPr/>
            <p:nvPr/>
          </p:nvSpPr>
          <p:spPr>
            <a:xfrm>
              <a:off x="45370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0844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5381640" y="3276720"/>
            <a:ext cx="838080" cy="749160"/>
            <a:chOff x="5381640" y="3276720"/>
            <a:chExt cx="838080" cy="749160"/>
          </a:xfrm>
        </p:grpSpPr>
        <p:sp>
          <p:nvSpPr>
            <p:cNvPr id="634" name=""/>
            <p:cNvSpPr/>
            <p:nvPr/>
          </p:nvSpPr>
          <p:spPr>
            <a:xfrm>
              <a:off x="5381640" y="358128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609880" y="32767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22860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3962520" y="3276720"/>
            <a:ext cx="609480" cy="761040"/>
            <a:chOff x="3962520" y="3276720"/>
            <a:chExt cx="609480" cy="761040"/>
          </a:xfrm>
        </p:grpSpPr>
        <p:sp>
          <p:nvSpPr>
            <p:cNvPr id="638" name=""/>
            <p:cNvSpPr/>
            <p:nvPr/>
          </p:nvSpPr>
          <p:spPr>
            <a:xfrm>
              <a:off x="3962520" y="3589920"/>
              <a:ext cx="609480" cy="4478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88160" y="3276720"/>
              <a:ext cx="33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1371600" y="5257800"/>
            <a:ext cx="6553080" cy="914400"/>
            <a:chOff x="1371600" y="5257800"/>
            <a:chExt cx="6553080" cy="914400"/>
          </a:xfrm>
        </p:grpSpPr>
        <p:sp>
          <p:nvSpPr>
            <p:cNvPr id="641" name=""/>
            <p:cNvSpPr/>
            <p:nvPr/>
          </p:nvSpPr>
          <p:spPr>
            <a:xfrm>
              <a:off x="1371600" y="52578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  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=  72 - 27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24160" y="5410080"/>
              <a:ext cx="914400" cy="609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286000" y="525780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5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addition proble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7 + 26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67684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648" name=""/>
          <p:cNvGrpSpPr/>
          <p:nvPr/>
        </p:nvGrpSpPr>
        <p:grpSpPr>
          <a:xfrm>
            <a:off x="4685400" y="4022280"/>
            <a:ext cx="519120" cy="1120680"/>
            <a:chOff x="4685400" y="4022280"/>
            <a:chExt cx="519120" cy="1120680"/>
          </a:xfrm>
        </p:grpSpPr>
        <p:sp>
          <p:nvSpPr>
            <p:cNvPr id="649" name=""/>
            <p:cNvSpPr/>
            <p:nvPr/>
          </p:nvSpPr>
          <p:spPr>
            <a:xfrm flipV="1">
              <a:off x="497232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8540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6869520" y="4022280"/>
            <a:ext cx="519120" cy="1120680"/>
            <a:chOff x="6869520" y="4022280"/>
            <a:chExt cx="519120" cy="1120680"/>
          </a:xfrm>
        </p:grpSpPr>
        <p:sp>
          <p:nvSpPr>
            <p:cNvPr id="652" name=""/>
            <p:cNvSpPr/>
            <p:nvPr/>
          </p:nvSpPr>
          <p:spPr>
            <a:xfrm flipV="1">
              <a:off x="715608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6952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56386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5803920" y="3276720"/>
            <a:ext cx="838080" cy="755640"/>
            <a:chOff x="5803920" y="3276720"/>
            <a:chExt cx="838080" cy="755640"/>
          </a:xfrm>
        </p:grpSpPr>
        <p:sp>
          <p:nvSpPr>
            <p:cNvPr id="656" name=""/>
            <p:cNvSpPr/>
            <p:nvPr/>
          </p:nvSpPr>
          <p:spPr>
            <a:xfrm>
              <a:off x="580392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7528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4981680" y="3276720"/>
            <a:ext cx="838080" cy="755640"/>
            <a:chOff x="4981680" y="3276720"/>
            <a:chExt cx="838080" cy="755640"/>
          </a:xfrm>
        </p:grpSpPr>
        <p:sp>
          <p:nvSpPr>
            <p:cNvPr id="659" name=""/>
            <p:cNvSpPr/>
            <p:nvPr/>
          </p:nvSpPr>
          <p:spPr>
            <a:xfrm>
              <a:off x="4981680" y="358776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53040" y="3276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642000" y="3263760"/>
            <a:ext cx="533520" cy="761400"/>
            <a:chOff x="6642000" y="3263760"/>
            <a:chExt cx="533520" cy="761400"/>
          </a:xfrm>
        </p:grpSpPr>
        <p:sp>
          <p:nvSpPr>
            <p:cNvPr id="662" name=""/>
            <p:cNvSpPr/>
            <p:nvPr/>
          </p:nvSpPr>
          <p:spPr>
            <a:xfrm>
              <a:off x="6642000" y="3587040"/>
              <a:ext cx="533520" cy="43812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73760" y="3263760"/>
              <a:ext cx="24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Numerac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making sense of numb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problem solving with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understanding base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learning with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preparing for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7 +         = 8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86200" y="228600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371600" y="4800600"/>
            <a:ext cx="6553080" cy="1828800"/>
            <a:chOff x="1371600" y="4800600"/>
            <a:chExt cx="6553080" cy="1828800"/>
          </a:xfrm>
        </p:grpSpPr>
        <p:sp>
          <p:nvSpPr>
            <p:cNvPr id="670" name=""/>
            <p:cNvSpPr/>
            <p:nvPr/>
          </p:nvSpPr>
          <p:spPr>
            <a:xfrm>
              <a:off x="1371600" y="480060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7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71600" y="5715000"/>
              <a:ext cx="655308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83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34120" y="48006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371600" y="3885840"/>
            <a:ext cx="6781680" cy="686160"/>
            <a:chOff x="1371600" y="3885840"/>
            <a:chExt cx="6781680" cy="686160"/>
          </a:xfrm>
        </p:grpSpPr>
        <p:sp>
          <p:nvSpPr>
            <p:cNvPr id="674" name=""/>
            <p:cNvSpPr/>
            <p:nvPr/>
          </p:nvSpPr>
          <p:spPr>
            <a:xfrm>
              <a:off x="5029200" y="40384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tone Sans ITC TT-Semi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71600" y="403848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5334120" y="3885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7848720" y="3885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43800" y="40384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tone Sans ITC TT-Semi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rategy Frame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to-one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ing from one with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ing from one by im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Part-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Part-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Multipl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 -   x    = 2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371600" y="31240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- 53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- x = 27 </a:t>
            </a:r>
            <a:r>
              <a:rPr b="1" lang="en-US" sz="4800" spc="-1" strike="noStrike">
                <a:solidFill>
                  <a:srgbClr val="ff0000"/>
                </a:solidFill>
                <a:latin typeface="Stone Sans ITC TT-Semi"/>
              </a:rPr>
              <a:t>- 53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06520" y="396252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- x = -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295280" y="480060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= -26 ÷ 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770120" y="5638680"/>
            <a:ext cx="6729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= 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 -   x    = 2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371600" y="31240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- x +x = 27 +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406520" y="396252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           = 27 +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71600" y="480060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- 27    = 27 -27+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424160" y="56386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6       =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-         = 2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886200" y="228600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371600" y="5715000"/>
            <a:ext cx="39625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371600" y="4800600"/>
            <a:ext cx="655308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371600" y="3885840"/>
            <a:ext cx="6781680" cy="686160"/>
            <a:chOff x="1371600" y="3885840"/>
            <a:chExt cx="6781680" cy="686160"/>
          </a:xfrm>
        </p:grpSpPr>
        <p:sp>
          <p:nvSpPr>
            <p:cNvPr id="697" name=""/>
            <p:cNvSpPr/>
            <p:nvPr/>
          </p:nvSpPr>
          <p:spPr>
            <a:xfrm>
              <a:off x="5029200" y="40384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tone Sans ITC TT-Semi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371600" y="403848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5334120" y="3885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7848720" y="3885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43800" y="40384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tone Sans ITC TT-Semi"/>
                </a:rPr>
                <a:t>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5334120" y="5715000"/>
            <a:ext cx="259056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X + 1 = X +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62520" y="4114800"/>
            <a:ext cx="39621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371600" y="4114800"/>
            <a:ext cx="25909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371600" y="3200400"/>
            <a:ext cx="259092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62520" y="3200400"/>
            <a:ext cx="259056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553080" y="3200400"/>
            <a:ext cx="13716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X + 1 =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114800"/>
            <a:ext cx="6553080" cy="76212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1371600" y="3200400"/>
            <a:ext cx="6553080" cy="914400"/>
            <a:chOff x="1371600" y="3200400"/>
            <a:chExt cx="6553080" cy="914400"/>
          </a:xfrm>
        </p:grpSpPr>
        <p:sp>
          <p:nvSpPr>
            <p:cNvPr id="714" name=""/>
            <p:cNvSpPr/>
            <p:nvPr/>
          </p:nvSpPr>
          <p:spPr>
            <a:xfrm>
              <a:off x="1371600" y="3200400"/>
              <a:ext cx="259092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962520" y="3200400"/>
              <a:ext cx="259056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553080" y="3200400"/>
              <a:ext cx="137160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Teaching Progres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materials, diagrams to illustrate and solv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mental images to help solv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abstractly with th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X - 1 = X +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648320" y="4114800"/>
            <a:ext cx="19047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371600" y="3200400"/>
            <a:ext cx="327672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553080" y="4114800"/>
            <a:ext cx="13716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648320" y="3200400"/>
            <a:ext cx="327636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371600" y="4114800"/>
            <a:ext cx="3276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- 1 = 2X -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371600" y="3200400"/>
            <a:ext cx="396252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4114800"/>
            <a:ext cx="13716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34120" y="3200400"/>
            <a:ext cx="25905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962520" y="4114800"/>
            <a:ext cx="259056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371600" y="4114800"/>
            <a:ext cx="259092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371600" y="213372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- 1 = 2X - 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371600" y="320040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553080" y="4114800"/>
            <a:ext cx="1371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34120" y="3200400"/>
            <a:ext cx="2590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962520" y="4114800"/>
            <a:ext cx="2590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71600" y="411480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371600" y="4114800"/>
            <a:ext cx="655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371600" y="502920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7  =  X + 1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371600" y="5943600"/>
            <a:ext cx="65530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 =  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371600" y="2133720"/>
            <a:ext cx="64008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X - 1 = 8 - X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371600" y="3200400"/>
            <a:ext cx="213372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81680" y="4114800"/>
            <a:ext cx="990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371600" y="4114800"/>
            <a:ext cx="541008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505320" y="3200400"/>
            <a:ext cx="21333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63868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explore links between numeracy and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 particul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show that images used to help solve number problems also develop understanding for solving complicated linear eq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371600" y="2133720"/>
            <a:ext cx="64008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(X + 1) = 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7160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371600" y="4114800"/>
            <a:ext cx="64008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3200400"/>
            <a:ext cx="10666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05320" y="3200400"/>
            <a:ext cx="10666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371600" y="2133720"/>
            <a:ext cx="64008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(X + 1) = 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7200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705720" y="3200400"/>
            <a:ext cx="10666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505320" y="3200400"/>
            <a:ext cx="10666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371600" y="4114800"/>
            <a:ext cx="6400800" cy="914400"/>
            <a:chOff x="1371600" y="4114800"/>
            <a:chExt cx="6400800" cy="914400"/>
          </a:xfrm>
        </p:grpSpPr>
        <p:sp>
          <p:nvSpPr>
            <p:cNvPr id="764" name=""/>
            <p:cNvSpPr/>
            <p:nvPr/>
          </p:nvSpPr>
          <p:spPr>
            <a:xfrm>
              <a:off x="1371600" y="4114800"/>
              <a:ext cx="320040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572000" y="4114800"/>
              <a:ext cx="320040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371600" y="2133720"/>
            <a:ext cx="64008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(X + 1) = 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71600" y="3200400"/>
            <a:ext cx="213372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71600" y="4114800"/>
            <a:ext cx="64008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505320" y="3200400"/>
            <a:ext cx="21333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705720" y="3200400"/>
            <a:ext cx="10666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38680" y="3200400"/>
            <a:ext cx="106704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371600" y="2133720"/>
            <a:ext cx="58672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 + 3 =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371600" y="3200400"/>
            <a:ext cx="228600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371600" y="4114800"/>
            <a:ext cx="586728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657600" y="3200400"/>
            <a:ext cx="358128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5105520" y="5257800"/>
            <a:ext cx="2819160" cy="914400"/>
          </a:xfrm>
          <a:prstGeom prst="rect">
            <a:avLst/>
          </a:prstGeom>
          <a:solidFill>
            <a:srgbClr val="3333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09680" y="3429000"/>
            <a:ext cx="43434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53080" y="4343400"/>
            <a:ext cx="137160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124080" y="2057400"/>
            <a:ext cx="3810240" cy="1143000"/>
            <a:chOff x="3124080" y="2057400"/>
            <a:chExt cx="3810240" cy="1143000"/>
          </a:xfrm>
        </p:grpSpPr>
        <p:sp>
          <p:nvSpPr>
            <p:cNvPr id="782" name=""/>
            <p:cNvSpPr/>
            <p:nvPr/>
          </p:nvSpPr>
          <p:spPr>
            <a:xfrm>
              <a:off x="3124080" y="2057400"/>
              <a:ext cx="3810240" cy="11430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3" name=""/>
                <p:cNvSpPr txBox="1"/>
                <p:nvPr/>
              </p:nvSpPr>
              <p:spPr>
                <a:xfrm>
                  <a:off x="3733920" y="2133720"/>
                  <a:ext cx="2705040" cy="101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84" name=""/>
            <p:cNvSpPr/>
            <p:nvPr/>
          </p:nvSpPr>
          <p:spPr>
            <a:xfrm>
              <a:off x="3759120" y="266724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2209680" y="4191120"/>
            <a:ext cx="4343400" cy="1066680"/>
            <a:chOff x="2209680" y="4191120"/>
            <a:chExt cx="4343400" cy="1066680"/>
          </a:xfrm>
        </p:grpSpPr>
        <p:grpSp>
          <p:nvGrpSpPr>
            <p:cNvPr id="786" name=""/>
            <p:cNvGrpSpPr/>
            <p:nvPr/>
          </p:nvGrpSpPr>
          <p:grpSpPr>
            <a:xfrm>
              <a:off x="5105520" y="4191120"/>
              <a:ext cx="1447560" cy="1066680"/>
              <a:chOff x="5105520" y="4191120"/>
              <a:chExt cx="1447560" cy="1066680"/>
            </a:xfrm>
          </p:grpSpPr>
          <p:sp>
            <p:nvSpPr>
              <p:cNvPr id="787" name=""/>
              <p:cNvSpPr/>
              <p:nvPr/>
            </p:nvSpPr>
            <p:spPr>
              <a:xfrm>
                <a:off x="5105520" y="4343400"/>
                <a:ext cx="1447560" cy="9144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"/>
              <p:cNvGrpSpPr/>
              <p:nvPr/>
            </p:nvGrpSpPr>
            <p:grpSpPr>
              <a:xfrm>
                <a:off x="5715000" y="4191120"/>
                <a:ext cx="317520" cy="1015920"/>
                <a:chOff x="5715000" y="4191120"/>
                <a:chExt cx="317520" cy="10159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789" name=""/>
                    <p:cNvSpPr txBox="1"/>
                    <p:nvPr/>
                  </p:nvSpPr>
                  <p:spPr>
                    <a:xfrm>
                      <a:off x="5715000" y="4191120"/>
                      <a:ext cx="317520" cy="1015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790" name=""/>
                <p:cNvSpPr/>
                <p:nvPr/>
              </p:nvSpPr>
              <p:spPr>
                <a:xfrm>
                  <a:off x="5727600" y="4711680"/>
                  <a:ext cx="3049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1" name=""/>
            <p:cNvGrpSpPr/>
            <p:nvPr/>
          </p:nvGrpSpPr>
          <p:grpSpPr>
            <a:xfrm>
              <a:off x="3657600" y="4191120"/>
              <a:ext cx="1447560" cy="1066680"/>
              <a:chOff x="3657600" y="4191120"/>
              <a:chExt cx="1447560" cy="1066680"/>
            </a:xfrm>
          </p:grpSpPr>
          <p:sp>
            <p:nvSpPr>
              <p:cNvPr id="792" name=""/>
              <p:cNvSpPr/>
              <p:nvPr/>
            </p:nvSpPr>
            <p:spPr>
              <a:xfrm>
                <a:off x="3657600" y="4343400"/>
                <a:ext cx="1447560" cy="9144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3" name=""/>
              <p:cNvGrpSpPr/>
              <p:nvPr/>
            </p:nvGrpSpPr>
            <p:grpSpPr>
              <a:xfrm>
                <a:off x="4267080" y="4191120"/>
                <a:ext cx="317520" cy="1015920"/>
                <a:chOff x="4267080" y="4191120"/>
                <a:chExt cx="317520" cy="10159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794" name=""/>
                    <p:cNvSpPr txBox="1"/>
                    <p:nvPr/>
                  </p:nvSpPr>
                  <p:spPr>
                    <a:xfrm>
                      <a:off x="4267080" y="4191120"/>
                      <a:ext cx="317520" cy="1015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795" name=""/>
                <p:cNvSpPr/>
                <p:nvPr/>
              </p:nvSpPr>
              <p:spPr>
                <a:xfrm>
                  <a:off x="4279680" y="4711680"/>
                  <a:ext cx="3049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6" name=""/>
            <p:cNvGrpSpPr/>
            <p:nvPr/>
          </p:nvGrpSpPr>
          <p:grpSpPr>
            <a:xfrm>
              <a:off x="2209680" y="4191120"/>
              <a:ext cx="1447560" cy="1066680"/>
              <a:chOff x="2209680" y="4191120"/>
              <a:chExt cx="1447560" cy="1066680"/>
            </a:xfrm>
          </p:grpSpPr>
          <p:sp>
            <p:nvSpPr>
              <p:cNvPr id="797" name=""/>
              <p:cNvSpPr/>
              <p:nvPr/>
            </p:nvSpPr>
            <p:spPr>
              <a:xfrm>
                <a:off x="2209680" y="4343400"/>
                <a:ext cx="1447560" cy="9144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8" name=""/>
              <p:cNvGrpSpPr/>
              <p:nvPr/>
            </p:nvGrpSpPr>
            <p:grpSpPr>
              <a:xfrm>
                <a:off x="2819160" y="4191120"/>
                <a:ext cx="317520" cy="1015920"/>
                <a:chOff x="2819160" y="4191120"/>
                <a:chExt cx="317520" cy="10159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799" name=""/>
                    <p:cNvSpPr txBox="1"/>
                    <p:nvPr/>
                  </p:nvSpPr>
                  <p:spPr>
                    <a:xfrm>
                      <a:off x="2819160" y="4191120"/>
                      <a:ext cx="317520" cy="1015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800" name=""/>
                <p:cNvSpPr/>
                <p:nvPr/>
              </p:nvSpPr>
              <p:spPr>
                <a:xfrm>
                  <a:off x="2831760" y="4711680"/>
                  <a:ext cx="3049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01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2819520" y="3352680"/>
            <a:ext cx="350496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324480" y="3352680"/>
            <a:ext cx="838440" cy="91440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3124080" y="1981080"/>
            <a:ext cx="3810240" cy="1143000"/>
            <a:chOff x="3124080" y="1981080"/>
            <a:chExt cx="3810240" cy="1143000"/>
          </a:xfrm>
        </p:grpSpPr>
        <p:sp>
          <p:nvSpPr>
            <p:cNvPr id="805" name=""/>
            <p:cNvSpPr/>
            <p:nvPr/>
          </p:nvSpPr>
          <p:spPr>
            <a:xfrm>
              <a:off x="3124080" y="1981080"/>
              <a:ext cx="3810240" cy="11430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3924360" y="2057400"/>
                  <a:ext cx="2324160" cy="101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7" name=""/>
            <p:cNvSpPr/>
            <p:nvPr/>
          </p:nvSpPr>
          <p:spPr>
            <a:xfrm>
              <a:off x="3911760" y="2590920"/>
              <a:ext cx="96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2819520" y="4267080"/>
            <a:ext cx="4343400" cy="914400"/>
            <a:chOff x="2819520" y="4267080"/>
            <a:chExt cx="4343400" cy="914400"/>
          </a:xfrm>
        </p:grpSpPr>
        <p:sp>
          <p:nvSpPr>
            <p:cNvPr id="809" name=""/>
            <p:cNvSpPr/>
            <p:nvPr/>
          </p:nvSpPr>
          <p:spPr>
            <a:xfrm>
              <a:off x="5715360" y="4267080"/>
              <a:ext cx="144756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267440" y="4267080"/>
              <a:ext cx="144792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19520" y="4267080"/>
              <a:ext cx="1447920" cy="914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2819520" y="5181480"/>
            <a:ext cx="4343400" cy="914400"/>
            <a:chOff x="2819520" y="5181480"/>
            <a:chExt cx="4343400" cy="914400"/>
          </a:xfrm>
        </p:grpSpPr>
        <p:sp>
          <p:nvSpPr>
            <p:cNvPr id="813" name=""/>
            <p:cNvSpPr/>
            <p:nvPr/>
          </p:nvSpPr>
          <p:spPr>
            <a:xfrm>
              <a:off x="5715360" y="5181480"/>
              <a:ext cx="144756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0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267440" y="5181480"/>
              <a:ext cx="144792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0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19520" y="5181480"/>
              <a:ext cx="144792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0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ving Equ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Numerac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making sense of numb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problem solving with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understanding base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learning with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t’s about preparing for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swers Only Pleas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46 +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61 –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4 + ?  = 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78 + 1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9000 – 89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403 - 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47 + y = 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53 - m =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2x + 1 = x 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2x - 1 = 8 -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26 + 7 = ? +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88 + x = 120 +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Teaching Progres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materials, diagrams to illustrate and solv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ing mental images to help solv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abstractly with the number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Material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23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6 +         = 83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3732840" y="4022280"/>
            <a:ext cx="519120" cy="1120680"/>
            <a:chOff x="3732840" y="4022280"/>
            <a:chExt cx="519120" cy="1120680"/>
          </a:xfrm>
        </p:grpSpPr>
        <p:sp>
          <p:nvSpPr>
            <p:cNvPr id="127" name=""/>
            <p:cNvSpPr/>
            <p:nvPr/>
          </p:nvSpPr>
          <p:spPr>
            <a:xfrm flipV="1">
              <a:off x="40194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328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936480" y="4022280"/>
            <a:ext cx="519120" cy="1120680"/>
            <a:chOff x="6936480" y="4022280"/>
            <a:chExt cx="519120" cy="1120680"/>
          </a:xfrm>
        </p:grpSpPr>
        <p:sp>
          <p:nvSpPr>
            <p:cNvPr id="130" name=""/>
            <p:cNvSpPr/>
            <p:nvPr/>
          </p:nvSpPr>
          <p:spPr>
            <a:xfrm flipV="1">
              <a:off x="7223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364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019400" y="3772080"/>
            <a:ext cx="381240" cy="2664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00640" y="358776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45200" y="358128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3581280"/>
            <a:ext cx="83844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3816360"/>
            <a:ext cx="304560" cy="2160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350532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738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802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53400" y="354960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ing Material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45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8 +         = 81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280" y="3635280"/>
            <a:ext cx="8839440" cy="55584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3732840" y="2895480"/>
            <a:ext cx="3719520" cy="1465920"/>
            <a:chOff x="3732840" y="2895480"/>
            <a:chExt cx="3719520" cy="1465920"/>
          </a:xfrm>
        </p:grpSpPr>
        <p:grpSp>
          <p:nvGrpSpPr>
            <p:cNvPr id="150" name=""/>
            <p:cNvGrpSpPr/>
            <p:nvPr/>
          </p:nvGrpSpPr>
          <p:grpSpPr>
            <a:xfrm>
              <a:off x="3732840" y="3641040"/>
              <a:ext cx="519120" cy="704520"/>
              <a:chOff x="3732840" y="3641040"/>
              <a:chExt cx="519120" cy="704520"/>
            </a:xfrm>
          </p:grpSpPr>
          <p:sp>
            <p:nvSpPr>
              <p:cNvPr id="151" name=""/>
              <p:cNvSpPr/>
              <p:nvPr/>
            </p:nvSpPr>
            <p:spPr>
              <a:xfrm flipV="1">
                <a:off x="4019400" y="364104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32840" y="388584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4019400" y="3390840"/>
              <a:ext cx="381240" cy="2664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00640" y="320652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45200" y="320004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95880" y="320004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34320" y="3435120"/>
              <a:ext cx="304560" cy="2160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38480" y="31240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738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802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53400" y="316836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6933240" y="3656880"/>
              <a:ext cx="519120" cy="704520"/>
              <a:chOff x="6933240" y="3656880"/>
              <a:chExt cx="519120" cy="704520"/>
            </a:xfrm>
          </p:grpSpPr>
          <p:sp>
            <p:nvSpPr>
              <p:cNvPr id="164" name=""/>
              <p:cNvSpPr/>
              <p:nvPr/>
            </p:nvSpPr>
            <p:spPr>
              <a:xfrm flipV="1">
                <a:off x="7219800" y="365688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933240" y="3901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371600" y="4251240"/>
            <a:ext cx="6553080" cy="914400"/>
            <a:chOff x="1371600" y="4251240"/>
            <a:chExt cx="6553080" cy="914400"/>
          </a:xfrm>
        </p:grpSpPr>
        <p:sp>
          <p:nvSpPr>
            <p:cNvPr id="167" name=""/>
            <p:cNvSpPr/>
            <p:nvPr/>
          </p:nvSpPr>
          <p:spPr>
            <a:xfrm>
              <a:off x="1371600" y="425124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9 +         = 75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86200" y="440388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886200" y="425124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8839440" cy="55584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2174040" y="5181480"/>
            <a:ext cx="4525920" cy="1409040"/>
            <a:chOff x="2174040" y="5181480"/>
            <a:chExt cx="4525920" cy="1409040"/>
          </a:xfrm>
        </p:grpSpPr>
        <p:grpSp>
          <p:nvGrpSpPr>
            <p:cNvPr id="172" name=""/>
            <p:cNvGrpSpPr/>
            <p:nvPr/>
          </p:nvGrpSpPr>
          <p:grpSpPr>
            <a:xfrm>
              <a:off x="2174040" y="5886000"/>
              <a:ext cx="519120" cy="704520"/>
              <a:chOff x="2174040" y="5886000"/>
              <a:chExt cx="519120" cy="704520"/>
            </a:xfrm>
          </p:grpSpPr>
          <p:sp>
            <p:nvSpPr>
              <p:cNvPr id="173" name=""/>
              <p:cNvSpPr/>
              <p:nvPr/>
            </p:nvSpPr>
            <p:spPr>
              <a:xfrm flipV="1">
                <a:off x="2460600" y="588600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74040" y="6130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463840" y="5581800"/>
              <a:ext cx="228600" cy="30456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92440" y="5477040"/>
              <a:ext cx="3352680" cy="3902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5880" y="5486400"/>
              <a:ext cx="38124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32160" y="533412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43400" y="5181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27920" y="52452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180840" y="5882760"/>
              <a:ext cx="519120" cy="704520"/>
              <a:chOff x="6180840" y="5882760"/>
              <a:chExt cx="519120" cy="704520"/>
            </a:xfrm>
          </p:grpSpPr>
          <p:sp>
            <p:nvSpPr>
              <p:cNvPr id="182" name=""/>
              <p:cNvSpPr/>
              <p:nvPr/>
            </p:nvSpPr>
            <p:spPr>
              <a:xfrm flipV="1">
                <a:off x="6467400" y="588276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80840" y="6127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couraging Imaging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86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9 +         = 63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593080" y="4022280"/>
            <a:ext cx="519120" cy="1120680"/>
            <a:chOff x="2593080" y="4022280"/>
            <a:chExt cx="519120" cy="1120680"/>
          </a:xfrm>
        </p:grpSpPr>
        <p:sp>
          <p:nvSpPr>
            <p:cNvPr id="189" name=""/>
            <p:cNvSpPr/>
            <p:nvPr/>
          </p:nvSpPr>
          <p:spPr>
            <a:xfrm flipV="1">
              <a:off x="28796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930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14040" y="4022280"/>
            <a:ext cx="519120" cy="1120680"/>
            <a:chOff x="6314040" y="4022280"/>
            <a:chExt cx="519120" cy="1120680"/>
          </a:xfrm>
        </p:grpSpPr>
        <p:sp>
          <p:nvSpPr>
            <p:cNvPr id="192" name=""/>
            <p:cNvSpPr/>
            <p:nvPr/>
          </p:nvSpPr>
          <p:spPr>
            <a:xfrm flipV="1">
              <a:off x="66006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140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870280" y="3352680"/>
            <a:ext cx="272880" cy="685800"/>
            <a:chOff x="2870280" y="3352680"/>
            <a:chExt cx="272880" cy="685800"/>
          </a:xfrm>
        </p:grpSpPr>
        <p:sp>
          <p:nvSpPr>
            <p:cNvPr id="195" name=""/>
            <p:cNvSpPr/>
            <p:nvPr/>
          </p:nvSpPr>
          <p:spPr>
            <a:xfrm>
              <a:off x="2914560" y="365760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7028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149640" y="3232080"/>
            <a:ext cx="1498680" cy="806400"/>
            <a:chOff x="3149640" y="3232080"/>
            <a:chExt cx="1498680" cy="806400"/>
          </a:xfrm>
        </p:grpSpPr>
        <p:sp>
          <p:nvSpPr>
            <p:cNvPr id="198" name=""/>
            <p:cNvSpPr/>
            <p:nvPr/>
          </p:nvSpPr>
          <p:spPr>
            <a:xfrm>
              <a:off x="3149640" y="3505320"/>
              <a:ext cx="149868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95760" y="3232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140520" y="3308400"/>
            <a:ext cx="457200" cy="730080"/>
            <a:chOff x="6140520" y="3308400"/>
            <a:chExt cx="457200" cy="730080"/>
          </a:xfrm>
        </p:grpSpPr>
        <p:sp>
          <p:nvSpPr>
            <p:cNvPr id="201" name=""/>
            <p:cNvSpPr/>
            <p:nvPr/>
          </p:nvSpPr>
          <p:spPr>
            <a:xfrm>
              <a:off x="6140520" y="3581280"/>
              <a:ext cx="457200" cy="4572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10360" y="33084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587600" y="4038480"/>
            <a:ext cx="339120" cy="621720"/>
            <a:chOff x="1587600" y="4038480"/>
            <a:chExt cx="339120" cy="621720"/>
          </a:xfrm>
        </p:grpSpPr>
        <p:sp>
          <p:nvSpPr>
            <p:cNvPr id="205" name=""/>
            <p:cNvSpPr/>
            <p:nvPr/>
          </p:nvSpPr>
          <p:spPr>
            <a:xfrm>
              <a:off x="1587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826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067200" y="4038480"/>
            <a:ext cx="339120" cy="621720"/>
            <a:chOff x="3067200" y="4038480"/>
            <a:chExt cx="339120" cy="621720"/>
          </a:xfrm>
        </p:grpSpPr>
        <p:sp>
          <p:nvSpPr>
            <p:cNvPr id="208" name=""/>
            <p:cNvSpPr/>
            <p:nvPr/>
          </p:nvSpPr>
          <p:spPr>
            <a:xfrm>
              <a:off x="30672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640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548600" y="4038480"/>
            <a:ext cx="339120" cy="621720"/>
            <a:chOff x="4548600" y="4038480"/>
            <a:chExt cx="339120" cy="621720"/>
          </a:xfrm>
        </p:grpSpPr>
        <p:sp>
          <p:nvSpPr>
            <p:cNvPr id="211" name=""/>
            <p:cNvSpPr/>
            <p:nvPr/>
          </p:nvSpPr>
          <p:spPr>
            <a:xfrm>
              <a:off x="4548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43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027840" y="4038480"/>
            <a:ext cx="339120" cy="621720"/>
            <a:chOff x="6027840" y="4038480"/>
            <a:chExt cx="339120" cy="621720"/>
          </a:xfrm>
        </p:grpSpPr>
        <p:sp>
          <p:nvSpPr>
            <p:cNvPr id="214" name=""/>
            <p:cNvSpPr/>
            <p:nvPr/>
          </p:nvSpPr>
          <p:spPr>
            <a:xfrm>
              <a:off x="60278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46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509240" y="4038480"/>
            <a:ext cx="339120" cy="621720"/>
            <a:chOff x="7509240" y="4038480"/>
            <a:chExt cx="339120" cy="621720"/>
          </a:xfrm>
        </p:grpSpPr>
        <p:sp>
          <p:nvSpPr>
            <p:cNvPr id="217" name=""/>
            <p:cNvSpPr/>
            <p:nvPr/>
          </p:nvSpPr>
          <p:spPr>
            <a:xfrm>
              <a:off x="75092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04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648320" y="3225960"/>
            <a:ext cx="1498320" cy="812520"/>
            <a:chOff x="4648320" y="3225960"/>
            <a:chExt cx="1498320" cy="812520"/>
          </a:xfrm>
        </p:grpSpPr>
        <p:sp>
          <p:nvSpPr>
            <p:cNvPr id="220" name=""/>
            <p:cNvSpPr/>
            <p:nvPr/>
          </p:nvSpPr>
          <p:spPr>
            <a:xfrm>
              <a:off x="5194440" y="32259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48320" y="3505320"/>
              <a:ext cx="149832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447920" y="403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7T00:32:11Z</dcterms:created>
  <dc:creator>Murray Britt</dc:creator>
  <dc:description/>
  <dc:language>en-US</dc:language>
  <cp:lastModifiedBy>Support Services</cp:lastModifiedBy>
  <cp:lastPrinted>2004-08-30T02:31:11Z</cp:lastPrinted>
  <dcterms:modified xsi:type="dcterms:W3CDTF">2004-10-22T00:54:42Z</dcterms:modified>
  <cp:revision>46</cp:revision>
  <dc:subject/>
  <dc:title>Number Strategy 1</dc:title>
</cp:coreProperties>
</file>