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7C4-3352-434F-8AB4-F48A1B28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D77-D2C5-494C-8247-492112CF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55C-AAFC-463E-A525-ED3A0797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F3B-7DCA-4E98-8F4C-4C7816D3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45D-FE3B-49DB-A340-030596B9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E74-7221-4737-9C8D-5A31F283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994-5FB0-4E92-8C3C-B2C52EC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4B0-DEB1-4EE3-8B13-B5134F9C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7A4-C067-4284-B34C-86744E3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A68-F510-42D1-954D-7DC8A38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BBD-7785-466C-9FCA-642D833F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DBC-2531-4EA5-9820-90F7F743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DFB1-9D5D-43E1-8E10-4C0C60EC4FB2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9185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Instructions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oving art with GeoSketchp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Alla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arc through 3 points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180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2173320"/>
            <a:ext cx="475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double arc through 3 points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90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700360"/>
            <a:ext cx="38372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flowe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45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03280" y="2232000"/>
            <a:ext cx="475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flowe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5 to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60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W Animate the point on the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60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the entire flower and translate it around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it 10 cm ver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mi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idpoint and the top point on the segment and construct a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67120" y="1933560"/>
            <a:ext cx="3800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background to desel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circle and construct a point 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point on the circle and the segment and construct a perpendicula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64087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ntersection between the segment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is point 6cm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new point 1 cm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circle with the 2 new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the circle i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04840" y="1557360"/>
            <a:ext cx="7139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nimate the point on the circle and see the ball bou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imple harmonic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04840" y="1844640"/>
            <a:ext cx="7139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f you just draw rather than construct then your picture will fall apart when anim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art with just one point and construct every thing by translating, rotating, constructing, dilating and ani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s means that once you have the one point on the page you click on the “selection” button and use the drop down menus at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859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7548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20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002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uch better to see it in real life!</a:t>
            </a:r>
            <a:br>
              <a:rPr sz="72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ving art with GeoSketchpad on student resources drive and web sit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You need to work in the ICT Lab or purchase the softw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empus Sans ITC"/>
              </a:rPr>
              <a:t>See samples for inspiration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Tempus Sans ITC"/>
              </a:rPr>
              <a:t>dancing sticks!</a:t>
            </a:r>
            <a:br>
              <a:rPr sz="48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Sine wave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balls bouncing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flowers waving in the wi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nd your very own design can be uploaded onto the class site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follow each st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is task a few times you will get the idea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e able to create your own de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ot in the middle of th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ck on the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lection arrow t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ransform 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late, rotate and trans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point 5cm to the 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34996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both dots and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56008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nt on the seg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f you can not do this then click on the background then click on the segment then select the drop down menu “construct” and look for “point on segment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5084640"/>
            <a:ext cx="729324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 the point only and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5cm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551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light the new point only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1cm to the right. Repeat this to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1cm upwards al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472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hose 3 points “hanging in ai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 “arc through 3 points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883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23:42:18Z</dcterms:created>
  <dc:creator>Administrator</dc:creator>
  <dc:description/>
  <dc:language>en-US</dc:language>
  <cp:lastModifiedBy>Administrator</cp:lastModifiedBy>
  <dcterms:modified xsi:type="dcterms:W3CDTF">2007-02-14T23:18:37Z</dcterms:modified>
  <cp:revision>9</cp:revision>
  <dc:subject/>
  <dc:title>Instructions: Moving art with GeoSketchpad</dc:title>
</cp:coreProperties>
</file>