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BE6-2636-4692-B004-65C8DC16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26B-4893-4A46-97A5-59C92FB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B30-FD6E-434D-A865-31256EE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795-B0D0-463E-9FB5-D845D5F3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E4D-57BE-4C18-81CA-369B9F4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2C5-ED75-4C36-948F-9F69A97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135-3F9E-43CB-BBE8-06B15EF3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EA-7D1E-4347-B62C-D458081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A04-F1E4-4FB4-A3B1-663618BF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046-891E-4499-91DB-A9F88D21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D39-DBBC-415E-B5DB-AC7C8EF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EC5-BCB7-4F7C-9FDC-A2F39E7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9CEA-2F29-406C-8068-E69DB38F34B2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Instructions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oving art with GeoSketchp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Alla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18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2173320"/>
            <a:ext cx="475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double 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9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700360"/>
            <a:ext cx="38372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45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03280" y="2232000"/>
            <a:ext cx="475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5 to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W Animate the point on the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the entire flower and translate it around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it 10 cm ver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idpoint and the top point on the segment and construct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67120" y="1933560"/>
            <a:ext cx="3800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background to desel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circle and construct a point 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oint on the circle and the segment and construct a perpendicula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64087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ntersection between the segment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is point 6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new point 1 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circle with the 2 new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the circle i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04840" y="155736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nimate the point on the circle and see the ball bou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imple harmonic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04840" y="184464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f you just draw rather than construct then your picture will fall apart when an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art with just one point and construct every thing by translating, rotating, constructing, dilating and ani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s means that once you have the one point on the page you click on the “selection” button and use the drop down menus at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859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7548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20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002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uch better to see it in real life!</a:t>
            </a:r>
            <a:br>
              <a:rPr sz="72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ving art with GeoSketchpad on student resources drive and web sit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You need to work in the ICT Lab or purchase the softw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empus Sans ITC"/>
              </a:rPr>
              <a:t>See samples for inspiration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Tempus Sans ITC"/>
              </a:rPr>
              <a:t>dancing sticks!</a:t>
            </a:r>
            <a:br>
              <a:rPr sz="48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Sine wave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balls bouncing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flowers waving in the wi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nd your very own design can be uploaded onto the class site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follow each st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is task a few times you will get the idea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e able to create your own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ot in the middle of th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ck on the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lection arrow t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ransform 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late, rotate and trans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point 5cm to the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34996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both dots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56008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nt on the seg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f you can not do this then click on the background then click on the segment then select the drop down menu “construct” and look for “point on segment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5084640"/>
            <a:ext cx="729324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 the point only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5cm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551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light the new point only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to the right. Repeat this to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upwards al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472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hose 3 points “hanging in ai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 “arc through 3 point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23:42:18Z</dcterms:created>
  <dc:creator>Administrator</dc:creator>
  <dc:description/>
  <dc:language>en-US</dc:language>
  <cp:lastModifiedBy>Administrator</cp:lastModifiedBy>
  <dcterms:modified xsi:type="dcterms:W3CDTF">2007-02-14T23:18:37Z</dcterms:modified>
  <cp:revision>9</cp:revision>
  <dc:subject/>
  <dc:title>Instructions: Moving art with GeoSketchpad</dc:title>
</cp:coreProperties>
</file>