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3CEF-8026-4A0A-9395-B10A478C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AE79-D61B-4931-AA7E-686BF780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1D8-BF6B-44E4-9527-767CFB6D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921-2A9F-466E-B24C-CE0BC817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484-DDD2-4CF9-A201-ED3B23CE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313-5CB4-4EF3-AB54-21980A2E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487-A160-4D3F-BBD8-F774662F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637-D3CE-420B-908A-C6A2BA09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9B0-E09C-43B7-9127-889D8550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20F-F42D-4ABF-83D5-DA7E108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DBB-DA66-4A3E-A3F0-0CC75E2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3D0-8F1E-4BA1-A485-951F6A6D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7E2C-770F-4AD3-9301-DF2FA3B9D809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9185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Instructions: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Moving art with GeoSketchp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 Alla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arc through 3 points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o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180deg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2173320"/>
            <a:ext cx="47512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double arc through 3 points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o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90deg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700360"/>
            <a:ext cx="38372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flower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Ro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45degre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03280" y="2232000"/>
            <a:ext cx="4753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“flower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ouble clic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 the middle point.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y 5 to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60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NOW Animate the point on the seg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608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2160" cy="6359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lect the entire flower and translate it around the p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it 10 cm ver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the mid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midpoint and the top point on the segment and construct a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67120" y="1933560"/>
            <a:ext cx="38005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background to desel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circle and construct a point o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point on the circle and the segment and construct a perpendicula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64087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intersection between the segment and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is point 6cm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new point 1 cm to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circle with the 2 new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the circle i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04840" y="1557360"/>
            <a:ext cx="71391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simple harmonic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nimate the point on the circle and see the ball boun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simple harmonic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04840" y="1844640"/>
            <a:ext cx="71391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If you just draw rather than construct then your picture will fall apart when anim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tart with just one point and construct every thing by translating, rotating, constructing, dilating and anim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is means that once you have the one point on the page you click on the “selection” button and use the drop down menus at the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8595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775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7548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920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harmonic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3960" y="18162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002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Much better to see it in real life!</a:t>
            </a:r>
            <a:br>
              <a:rPr sz="7200"/>
            </a:b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Moving art with GeoSketchpad on student resources drive and web sit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You need to work in the ICT Lab or purchase the softw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64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empus Sans ITC"/>
              </a:rPr>
              <a:t>See samples for inspiration</a:t>
            </a:r>
            <a:br>
              <a:rPr sz="4800"/>
            </a:br>
            <a:r>
              <a:rPr b="1" lang="en-US" sz="4800" spc="-1" strike="noStrike">
                <a:solidFill>
                  <a:srgbClr val="ff0066"/>
                </a:solidFill>
                <a:latin typeface="Tempus Sans ITC"/>
              </a:rPr>
              <a:t>dancing sticks!</a:t>
            </a:r>
            <a:br>
              <a:rPr sz="4800"/>
            </a:br>
            <a:r>
              <a:rPr b="1" lang="en-US" sz="4400" spc="-1" strike="noStrike">
                <a:solidFill>
                  <a:srgbClr val="ff0066"/>
                </a:solidFill>
                <a:latin typeface="Tempus Sans ITC"/>
              </a:rPr>
              <a:t>Sine wave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Tempus Sans ITC"/>
              </a:rPr>
              <a:t>balls bouncing</a:t>
            </a:r>
            <a:br>
              <a:rPr sz="4400"/>
            </a:br>
            <a:r>
              <a:rPr b="1" lang="en-US" sz="4400" spc="-1" strike="noStrike">
                <a:solidFill>
                  <a:srgbClr val="ff0066"/>
                </a:solidFill>
                <a:latin typeface="Tempus Sans ITC"/>
              </a:rPr>
              <a:t>flowers waving in the win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and your very own design can be uploaded onto the class site to sh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o follow each ste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have completed this task a few times you will get the idea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r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e able to create your own des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ot in the middle of th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ick on the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lection arrow t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transform men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late, rotate and trans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 point 5cm to the r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34996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 both dots and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3213000"/>
            <a:ext cx="560088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int on the seg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f you can not do this then click on the background then click on the segment then select the drop down menu “construct” and look for “point on segment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5084640"/>
            <a:ext cx="729324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light the point only and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5cm d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5516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light the new point only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 1cm to the right. Repeat this to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rans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 1cm upwards al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472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those 3 points “hanging in air” and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stru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 “arc through 3 points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68836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23:42:18Z</dcterms:created>
  <dc:creator>Administrator</dc:creator>
  <dc:description/>
  <dc:language>en-US</dc:language>
  <cp:lastModifiedBy>Administrator</cp:lastModifiedBy>
  <dcterms:modified xsi:type="dcterms:W3CDTF">2007-02-14T23:18:37Z</dcterms:modified>
  <cp:revision>9</cp:revision>
  <dc:subject/>
  <dc:title>Instructions: Moving art with GeoSketchpad</dc:title>
</cp:coreProperties>
</file>