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8F6-0E9B-4D94-930A-BD07FA9A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1F0-7536-49C1-9A93-37A54F21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162-A118-4111-93B7-E74562C2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4C3-DA35-4653-8EB6-D116B27D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072F-C900-4E06-A4FA-32887164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80D-2813-4498-95EE-7C5B2CAF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746-D349-462A-8CCF-FFC3F530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609-A37B-40CB-A418-52327916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F05-6AD7-4D67-892D-9EE8F582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AD2-FB7F-48B1-A85F-F213DCBC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450-F632-48C0-9E85-E5D12C83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445-0EE8-4D8C-9B59-4606F72F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6E6D-4652-4010-B908-2351B7E9F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1160" y="465120"/>
            <a:ext cx="505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le 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les on a straight 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tically opposite ang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-interior ang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ernate ang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304920" y="-85680"/>
            <a:ext cx="97538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28480" y="465120"/>
            <a:ext cx="545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lation (enlargeme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you tell which is which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80160" y="465120"/>
            <a:ext cx="3521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ular Polyg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34520" y="465120"/>
            <a:ext cx="5871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ving A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on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e Harmonic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ine W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 learning for senior M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0"/>
            <a:ext cx="83059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13: Conic Se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9: a bit of fu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ruct an ellip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rt with a circ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a 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oint anywh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a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point on the circ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in the 2 up and construct the midpoi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ruct a perpendicular bisector and trace 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imate the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point on the circ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ve the 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ound and see what happe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304920" y="-85680"/>
            <a:ext cx="97538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1:43:14Z</dcterms:created>
  <dc:creator>Priscilla</dc:creator>
  <dc:description/>
  <dc:language>en-US</dc:language>
  <cp:lastModifiedBy>Priscilla</cp:lastModifiedBy>
  <dcterms:modified xsi:type="dcterms:W3CDTF">2008-03-10T17:13:53Z</dcterms:modified>
  <cp:revision>11</cp:revision>
  <dc:subject/>
  <dc:title>Slide 1</dc:title>
</cp:coreProperties>
</file>