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4A9-3344-47C8-A619-14DE35A4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7E7-5239-400E-8B1A-E5B45580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F69-C69E-4A13-A3A7-E6BF167D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A23-69B4-48DE-83BB-ACF0FD0E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DDE-C763-48E5-A932-B614E009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0FB-3817-4229-BC87-C210F576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5D1-2C1B-4B63-BFBD-8C01D1CA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29C-07ED-4488-A1F9-7F425C82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B71-E4C6-439C-AC5E-32582EFA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2804-9D63-4A6C-A1DD-111FF235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700-5E37-4350-BC1F-44183675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12B-C48A-4019-B247-7904F2EA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0D07-16DB-405A-B757-7FEA12D8D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61160" y="465120"/>
            <a:ext cx="505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le R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les on a straight 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tically opposite ang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-interior ang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ernate ang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304920" y="-85680"/>
            <a:ext cx="97538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28480" y="465120"/>
            <a:ext cx="545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lation (enlargeme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you tell which is which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80160" y="465120"/>
            <a:ext cx="3521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ular Polyg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34520" y="465120"/>
            <a:ext cx="58712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ving A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tion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e Harmonic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ine W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 learning for senior M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457200"/>
            <a:ext cx="847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0"/>
            <a:ext cx="83059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13: Conic Se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ear 9: a bit of fu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ruct an ellip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rt with a circ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a 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oint anywh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a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point on the circ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oin the 2 up and construct the midpoi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ruct a perpendicular bisector and trace 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imate the </a:t>
            </a: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point on the circ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ve the </a:t>
            </a: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oin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ound and see what happe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304920" y="-85680"/>
            <a:ext cx="97538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21:43:14Z</dcterms:created>
  <dc:creator>Priscilla</dc:creator>
  <dc:description/>
  <dc:language>en-US</dc:language>
  <cp:lastModifiedBy>Priscilla</cp:lastModifiedBy>
  <dcterms:modified xsi:type="dcterms:W3CDTF">2008-03-10T17:13:53Z</dcterms:modified>
  <cp:revision>11</cp:revision>
  <dc:subject/>
  <dc:title>Slide 1</dc:title>
</cp:coreProperties>
</file>